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2986"/>
            </a:avLst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11280" y="620640"/>
            <a:ext cx="7921440" cy="5616720"/>
          </a:xfrm>
          <a:prstGeom prst="roundRect">
            <a:avLst>
              <a:gd name="adj" fmla="val 10852"/>
            </a:avLst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085840" y="1197000"/>
            <a:ext cx="4808520" cy="45291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9080"/>
            <a:ext cx="9144000" cy="6819840"/>
          </a:xfrm>
          <a:custGeom>
            <a:avLst/>
            <a:gdLst/>
            <a:ahLst/>
            <a:rect l="l" t="t" r="r" b="b"/>
            <a:pathLst>
              <a:path w="1003" h="693">
                <a:moveTo>
                  <a:pt x="104" y="0"/>
                </a:moveTo>
                <a:lnTo>
                  <a:pt x="111" y="22"/>
                </a:lnTo>
                <a:lnTo>
                  <a:pt x="136" y="22"/>
                </a:lnTo>
                <a:lnTo>
                  <a:pt x="116" y="35"/>
                </a:lnTo>
                <a:lnTo>
                  <a:pt x="124" y="57"/>
                </a:lnTo>
                <a:lnTo>
                  <a:pt x="104" y="44"/>
                </a:lnTo>
                <a:lnTo>
                  <a:pt x="84" y="57"/>
                </a:lnTo>
                <a:lnTo>
                  <a:pt x="92" y="35"/>
                </a:lnTo>
                <a:lnTo>
                  <a:pt x="72" y="22"/>
                </a:lnTo>
                <a:lnTo>
                  <a:pt x="96" y="22"/>
                </a:lnTo>
                <a:lnTo>
                  <a:pt x="104" y="0"/>
                </a:lnTo>
                <a:close/>
                <a:moveTo>
                  <a:pt x="164" y="0"/>
                </a:moveTo>
                <a:cubicBezTo>
                  <a:pt x="167" y="7"/>
                  <a:pt x="169" y="14"/>
                  <a:pt x="172" y="22"/>
                </a:cubicBezTo>
                <a:cubicBezTo>
                  <a:pt x="180" y="22"/>
                  <a:pt x="188" y="22"/>
                  <a:pt x="196" y="22"/>
                </a:cubicBezTo>
                <a:cubicBezTo>
                  <a:pt x="190" y="26"/>
                  <a:pt x="183" y="31"/>
                  <a:pt x="177" y="35"/>
                </a:cubicBezTo>
                <a:cubicBezTo>
                  <a:pt x="179" y="43"/>
                  <a:pt x="182" y="50"/>
                  <a:pt x="184" y="57"/>
                </a:cubicBezTo>
                <a:cubicBezTo>
                  <a:pt x="178" y="53"/>
                  <a:pt x="171" y="48"/>
                  <a:pt x="164" y="44"/>
                </a:cubicBezTo>
                <a:cubicBezTo>
                  <a:pt x="158" y="48"/>
                  <a:pt x="151" y="53"/>
                  <a:pt x="145" y="57"/>
                </a:cubicBezTo>
                <a:cubicBezTo>
                  <a:pt x="147" y="50"/>
                  <a:pt x="150" y="43"/>
                  <a:pt x="152" y="35"/>
                </a:cubicBezTo>
                <a:cubicBezTo>
                  <a:pt x="146" y="31"/>
                  <a:pt x="139" y="26"/>
                  <a:pt x="133" y="22"/>
                </a:cubicBezTo>
                <a:cubicBezTo>
                  <a:pt x="141" y="22"/>
                  <a:pt x="149" y="22"/>
                  <a:pt x="157" y="22"/>
                </a:cubicBezTo>
                <a:cubicBezTo>
                  <a:pt x="159" y="14"/>
                  <a:pt x="162" y="7"/>
                  <a:pt x="164" y="0"/>
                </a:cubicBezTo>
                <a:close/>
                <a:moveTo>
                  <a:pt x="225" y="0"/>
                </a:moveTo>
                <a:cubicBezTo>
                  <a:pt x="227" y="7"/>
                  <a:pt x="230" y="14"/>
                  <a:pt x="233" y="22"/>
                </a:cubicBezTo>
                <a:cubicBezTo>
                  <a:pt x="241" y="22"/>
                  <a:pt x="249" y="22"/>
                  <a:pt x="257" y="22"/>
                </a:cubicBezTo>
                <a:cubicBezTo>
                  <a:pt x="250" y="26"/>
                  <a:pt x="244" y="31"/>
                  <a:pt x="237" y="35"/>
                </a:cubicBezTo>
                <a:cubicBezTo>
                  <a:pt x="240" y="43"/>
                  <a:pt x="242" y="50"/>
                  <a:pt x="245" y="57"/>
                </a:cubicBezTo>
                <a:cubicBezTo>
                  <a:pt x="238" y="53"/>
                  <a:pt x="232" y="48"/>
                  <a:pt x="225" y="44"/>
                </a:cubicBezTo>
                <a:cubicBezTo>
                  <a:pt x="218" y="48"/>
                  <a:pt x="212" y="53"/>
                  <a:pt x="205" y="57"/>
                </a:cubicBezTo>
                <a:cubicBezTo>
                  <a:pt x="208" y="50"/>
                  <a:pt x="210" y="43"/>
                  <a:pt x="213" y="35"/>
                </a:cubicBezTo>
                <a:cubicBezTo>
                  <a:pt x="206" y="31"/>
                  <a:pt x="200" y="26"/>
                  <a:pt x="193" y="22"/>
                </a:cubicBezTo>
                <a:cubicBezTo>
                  <a:pt x="201" y="22"/>
                  <a:pt x="209" y="22"/>
                  <a:pt x="217" y="22"/>
                </a:cubicBezTo>
                <a:cubicBezTo>
                  <a:pt x="220" y="14"/>
                  <a:pt x="222" y="7"/>
                  <a:pt x="225" y="0"/>
                </a:cubicBezTo>
                <a:close/>
                <a:moveTo>
                  <a:pt x="286" y="0"/>
                </a:moveTo>
                <a:cubicBezTo>
                  <a:pt x="288" y="7"/>
                  <a:pt x="291" y="14"/>
                  <a:pt x="293" y="22"/>
                </a:cubicBezTo>
                <a:cubicBezTo>
                  <a:pt x="301" y="22"/>
                  <a:pt x="309" y="22"/>
                  <a:pt x="317" y="22"/>
                </a:cubicBezTo>
                <a:cubicBezTo>
                  <a:pt x="311" y="26"/>
                  <a:pt x="304" y="31"/>
                  <a:pt x="298" y="35"/>
                </a:cubicBezTo>
                <a:cubicBezTo>
                  <a:pt x="300" y="43"/>
                  <a:pt x="303" y="50"/>
                  <a:pt x="305" y="57"/>
                </a:cubicBezTo>
                <a:cubicBezTo>
                  <a:pt x="299" y="53"/>
                  <a:pt x="292" y="48"/>
                  <a:pt x="286" y="44"/>
                </a:cubicBezTo>
                <a:cubicBezTo>
                  <a:pt x="279" y="48"/>
                  <a:pt x="272" y="53"/>
                  <a:pt x="266" y="57"/>
                </a:cubicBezTo>
                <a:cubicBezTo>
                  <a:pt x="268" y="50"/>
                  <a:pt x="271" y="43"/>
                  <a:pt x="273" y="35"/>
                </a:cubicBezTo>
                <a:cubicBezTo>
                  <a:pt x="267" y="31"/>
                  <a:pt x="260" y="26"/>
                  <a:pt x="254" y="22"/>
                </a:cubicBezTo>
                <a:cubicBezTo>
                  <a:pt x="262" y="22"/>
                  <a:pt x="270" y="22"/>
                  <a:pt x="278" y="22"/>
                </a:cubicBezTo>
                <a:cubicBezTo>
                  <a:pt x="281" y="14"/>
                  <a:pt x="283" y="7"/>
                  <a:pt x="286" y="0"/>
                </a:cubicBezTo>
                <a:close/>
                <a:moveTo>
                  <a:pt x="346" y="0"/>
                </a:moveTo>
                <a:cubicBezTo>
                  <a:pt x="349" y="7"/>
                  <a:pt x="351" y="14"/>
                  <a:pt x="354" y="22"/>
                </a:cubicBezTo>
                <a:cubicBezTo>
                  <a:pt x="362" y="22"/>
                  <a:pt x="370" y="22"/>
                  <a:pt x="378" y="22"/>
                </a:cubicBezTo>
                <a:cubicBezTo>
                  <a:pt x="371" y="26"/>
                  <a:pt x="365" y="31"/>
                  <a:pt x="358" y="35"/>
                </a:cubicBezTo>
                <a:cubicBezTo>
                  <a:pt x="361" y="43"/>
                  <a:pt x="363" y="50"/>
                  <a:pt x="366" y="57"/>
                </a:cubicBezTo>
                <a:cubicBezTo>
                  <a:pt x="359" y="53"/>
                  <a:pt x="353" y="48"/>
                  <a:pt x="346" y="44"/>
                </a:cubicBezTo>
                <a:cubicBezTo>
                  <a:pt x="340" y="48"/>
                  <a:pt x="333" y="53"/>
                  <a:pt x="326" y="57"/>
                </a:cubicBezTo>
                <a:cubicBezTo>
                  <a:pt x="329" y="50"/>
                  <a:pt x="331" y="43"/>
                  <a:pt x="334" y="35"/>
                </a:cubicBezTo>
                <a:cubicBezTo>
                  <a:pt x="327" y="31"/>
                  <a:pt x="321" y="26"/>
                  <a:pt x="314" y="22"/>
                </a:cubicBezTo>
                <a:cubicBezTo>
                  <a:pt x="322" y="22"/>
                  <a:pt x="330" y="22"/>
                  <a:pt x="339" y="22"/>
                </a:cubicBezTo>
                <a:cubicBezTo>
                  <a:pt x="341" y="14"/>
                  <a:pt x="344" y="7"/>
                  <a:pt x="346" y="0"/>
                </a:cubicBezTo>
                <a:close/>
                <a:moveTo>
                  <a:pt x="407" y="0"/>
                </a:moveTo>
                <a:cubicBezTo>
                  <a:pt x="409" y="7"/>
                  <a:pt x="412" y="14"/>
                  <a:pt x="414" y="22"/>
                </a:cubicBezTo>
                <a:cubicBezTo>
                  <a:pt x="422" y="22"/>
                  <a:pt x="430" y="22"/>
                  <a:pt x="439" y="22"/>
                </a:cubicBezTo>
                <a:cubicBezTo>
                  <a:pt x="432" y="26"/>
                  <a:pt x="425" y="31"/>
                  <a:pt x="419" y="35"/>
                </a:cubicBezTo>
                <a:cubicBezTo>
                  <a:pt x="421" y="43"/>
                  <a:pt x="424" y="50"/>
                  <a:pt x="426" y="57"/>
                </a:cubicBezTo>
                <a:cubicBezTo>
                  <a:pt x="420" y="53"/>
                  <a:pt x="413" y="48"/>
                  <a:pt x="407" y="44"/>
                </a:cubicBezTo>
                <a:cubicBezTo>
                  <a:pt x="400" y="48"/>
                  <a:pt x="394" y="53"/>
                  <a:pt x="387" y="57"/>
                </a:cubicBezTo>
                <a:cubicBezTo>
                  <a:pt x="390" y="50"/>
                  <a:pt x="392" y="43"/>
                  <a:pt x="395" y="35"/>
                </a:cubicBezTo>
                <a:cubicBezTo>
                  <a:pt x="388" y="31"/>
                  <a:pt x="381" y="26"/>
                  <a:pt x="375" y="22"/>
                </a:cubicBezTo>
                <a:cubicBezTo>
                  <a:pt x="383" y="22"/>
                  <a:pt x="391" y="22"/>
                  <a:pt x="399" y="22"/>
                </a:cubicBezTo>
                <a:cubicBezTo>
                  <a:pt x="402" y="14"/>
                  <a:pt x="404" y="7"/>
                  <a:pt x="407" y="0"/>
                </a:cubicBezTo>
                <a:close/>
                <a:moveTo>
                  <a:pt x="467" y="0"/>
                </a:moveTo>
                <a:cubicBezTo>
                  <a:pt x="470" y="7"/>
                  <a:pt x="472" y="14"/>
                  <a:pt x="475" y="22"/>
                </a:cubicBezTo>
                <a:cubicBezTo>
                  <a:pt x="483" y="22"/>
                  <a:pt x="491" y="22"/>
                  <a:pt x="499" y="22"/>
                </a:cubicBezTo>
                <a:cubicBezTo>
                  <a:pt x="493" y="26"/>
                  <a:pt x="486" y="31"/>
                  <a:pt x="479" y="35"/>
                </a:cubicBezTo>
                <a:cubicBezTo>
                  <a:pt x="482" y="43"/>
                  <a:pt x="484" y="50"/>
                  <a:pt x="487" y="57"/>
                </a:cubicBezTo>
                <a:cubicBezTo>
                  <a:pt x="480" y="53"/>
                  <a:pt x="474" y="48"/>
                  <a:pt x="467" y="44"/>
                </a:cubicBezTo>
                <a:cubicBezTo>
                  <a:pt x="461" y="48"/>
                  <a:pt x="454" y="53"/>
                  <a:pt x="448" y="57"/>
                </a:cubicBezTo>
                <a:cubicBezTo>
                  <a:pt x="450" y="50"/>
                  <a:pt x="453" y="43"/>
                  <a:pt x="455" y="35"/>
                </a:cubicBezTo>
                <a:cubicBezTo>
                  <a:pt x="449" y="31"/>
                  <a:pt x="442" y="26"/>
                  <a:pt x="435" y="22"/>
                </a:cubicBezTo>
                <a:cubicBezTo>
                  <a:pt x="444" y="22"/>
                  <a:pt x="452" y="22"/>
                  <a:pt x="460" y="22"/>
                </a:cubicBezTo>
                <a:cubicBezTo>
                  <a:pt x="462" y="14"/>
                  <a:pt x="465" y="7"/>
                  <a:pt x="467" y="0"/>
                </a:cubicBezTo>
                <a:close/>
                <a:moveTo>
                  <a:pt x="528" y="0"/>
                </a:moveTo>
                <a:cubicBezTo>
                  <a:pt x="530" y="7"/>
                  <a:pt x="533" y="14"/>
                  <a:pt x="535" y="22"/>
                </a:cubicBezTo>
                <a:cubicBezTo>
                  <a:pt x="543" y="22"/>
                  <a:pt x="552" y="22"/>
                  <a:pt x="560" y="22"/>
                </a:cubicBezTo>
                <a:cubicBezTo>
                  <a:pt x="553" y="26"/>
                  <a:pt x="547" y="31"/>
                  <a:pt x="540" y="35"/>
                </a:cubicBezTo>
                <a:cubicBezTo>
                  <a:pt x="542" y="43"/>
                  <a:pt x="545" y="50"/>
                  <a:pt x="548" y="57"/>
                </a:cubicBezTo>
                <a:cubicBezTo>
                  <a:pt x="541" y="53"/>
                  <a:pt x="534" y="48"/>
                  <a:pt x="528" y="44"/>
                </a:cubicBezTo>
                <a:cubicBezTo>
                  <a:pt x="521" y="48"/>
                  <a:pt x="515" y="53"/>
                  <a:pt x="508" y="57"/>
                </a:cubicBezTo>
                <a:cubicBezTo>
                  <a:pt x="511" y="50"/>
                  <a:pt x="513" y="43"/>
                  <a:pt x="516" y="35"/>
                </a:cubicBezTo>
                <a:cubicBezTo>
                  <a:pt x="509" y="31"/>
                  <a:pt x="503" y="26"/>
                  <a:pt x="496" y="22"/>
                </a:cubicBezTo>
                <a:cubicBezTo>
                  <a:pt x="504" y="22"/>
                  <a:pt x="512" y="22"/>
                  <a:pt x="520" y="22"/>
                </a:cubicBezTo>
                <a:cubicBezTo>
                  <a:pt x="523" y="14"/>
                  <a:pt x="525" y="7"/>
                  <a:pt x="528" y="0"/>
                </a:cubicBezTo>
                <a:close/>
                <a:moveTo>
                  <a:pt x="588" y="0"/>
                </a:moveTo>
                <a:cubicBezTo>
                  <a:pt x="591" y="7"/>
                  <a:pt x="593" y="14"/>
                  <a:pt x="596" y="22"/>
                </a:cubicBezTo>
                <a:cubicBezTo>
                  <a:pt x="604" y="22"/>
                  <a:pt x="612" y="22"/>
                  <a:pt x="620" y="22"/>
                </a:cubicBezTo>
                <a:cubicBezTo>
                  <a:pt x="614" y="26"/>
                  <a:pt x="607" y="31"/>
                  <a:pt x="601" y="35"/>
                </a:cubicBezTo>
                <a:cubicBezTo>
                  <a:pt x="603" y="43"/>
                  <a:pt x="606" y="50"/>
                  <a:pt x="608" y="57"/>
                </a:cubicBezTo>
                <a:cubicBezTo>
                  <a:pt x="602" y="53"/>
                  <a:pt x="595" y="48"/>
                  <a:pt x="588" y="44"/>
                </a:cubicBezTo>
                <a:cubicBezTo>
                  <a:pt x="582" y="48"/>
                  <a:pt x="575" y="53"/>
                  <a:pt x="569" y="57"/>
                </a:cubicBezTo>
                <a:cubicBezTo>
                  <a:pt x="571" y="50"/>
                  <a:pt x="574" y="43"/>
                  <a:pt x="576" y="35"/>
                </a:cubicBezTo>
                <a:cubicBezTo>
                  <a:pt x="570" y="31"/>
                  <a:pt x="563" y="26"/>
                  <a:pt x="557" y="22"/>
                </a:cubicBezTo>
                <a:cubicBezTo>
                  <a:pt x="565" y="22"/>
                  <a:pt x="573" y="22"/>
                  <a:pt x="581" y="22"/>
                </a:cubicBezTo>
                <a:cubicBezTo>
                  <a:pt x="583" y="14"/>
                  <a:pt x="586" y="7"/>
                  <a:pt x="588" y="0"/>
                </a:cubicBezTo>
                <a:close/>
                <a:moveTo>
                  <a:pt x="649" y="0"/>
                </a:moveTo>
                <a:cubicBezTo>
                  <a:pt x="651" y="7"/>
                  <a:pt x="654" y="14"/>
                  <a:pt x="656" y="22"/>
                </a:cubicBezTo>
                <a:cubicBezTo>
                  <a:pt x="665" y="22"/>
                  <a:pt x="673" y="22"/>
                  <a:pt x="681" y="22"/>
                </a:cubicBezTo>
                <a:cubicBezTo>
                  <a:pt x="674" y="26"/>
                  <a:pt x="668" y="31"/>
                  <a:pt x="661" y="35"/>
                </a:cubicBezTo>
                <a:cubicBezTo>
                  <a:pt x="664" y="43"/>
                  <a:pt x="666" y="50"/>
                  <a:pt x="669" y="57"/>
                </a:cubicBezTo>
                <a:cubicBezTo>
                  <a:pt x="662" y="53"/>
                  <a:pt x="656" y="48"/>
                  <a:pt x="649" y="44"/>
                </a:cubicBezTo>
                <a:cubicBezTo>
                  <a:pt x="642" y="48"/>
                  <a:pt x="636" y="53"/>
                  <a:pt x="629" y="57"/>
                </a:cubicBezTo>
                <a:cubicBezTo>
                  <a:pt x="632" y="50"/>
                  <a:pt x="634" y="43"/>
                  <a:pt x="637" y="35"/>
                </a:cubicBezTo>
                <a:cubicBezTo>
                  <a:pt x="630" y="31"/>
                  <a:pt x="624" y="26"/>
                  <a:pt x="617" y="22"/>
                </a:cubicBezTo>
                <a:cubicBezTo>
                  <a:pt x="625" y="22"/>
                  <a:pt x="633" y="22"/>
                  <a:pt x="641" y="22"/>
                </a:cubicBezTo>
                <a:cubicBezTo>
                  <a:pt x="644" y="14"/>
                  <a:pt x="646" y="7"/>
                  <a:pt x="649" y="0"/>
                </a:cubicBezTo>
                <a:close/>
                <a:moveTo>
                  <a:pt x="710" y="0"/>
                </a:moveTo>
                <a:cubicBezTo>
                  <a:pt x="712" y="7"/>
                  <a:pt x="715" y="14"/>
                  <a:pt x="717" y="22"/>
                </a:cubicBezTo>
                <a:cubicBezTo>
                  <a:pt x="725" y="22"/>
                  <a:pt x="733" y="22"/>
                  <a:pt x="741" y="22"/>
                </a:cubicBezTo>
                <a:cubicBezTo>
                  <a:pt x="735" y="26"/>
                  <a:pt x="728" y="31"/>
                  <a:pt x="722" y="35"/>
                </a:cubicBezTo>
                <a:cubicBezTo>
                  <a:pt x="724" y="43"/>
                  <a:pt x="727" y="50"/>
                  <a:pt x="729" y="57"/>
                </a:cubicBezTo>
                <a:cubicBezTo>
                  <a:pt x="723" y="53"/>
                  <a:pt x="716" y="48"/>
                  <a:pt x="710" y="44"/>
                </a:cubicBezTo>
                <a:cubicBezTo>
                  <a:pt x="703" y="48"/>
                  <a:pt x="696" y="53"/>
                  <a:pt x="690" y="57"/>
                </a:cubicBezTo>
                <a:cubicBezTo>
                  <a:pt x="692" y="50"/>
                  <a:pt x="695" y="43"/>
                  <a:pt x="697" y="35"/>
                </a:cubicBezTo>
                <a:cubicBezTo>
                  <a:pt x="691" y="31"/>
                  <a:pt x="684" y="26"/>
                  <a:pt x="678" y="22"/>
                </a:cubicBezTo>
                <a:cubicBezTo>
                  <a:pt x="686" y="22"/>
                  <a:pt x="694" y="22"/>
                  <a:pt x="702" y="22"/>
                </a:cubicBezTo>
                <a:cubicBezTo>
                  <a:pt x="705" y="14"/>
                  <a:pt x="707" y="7"/>
                  <a:pt x="710" y="0"/>
                </a:cubicBezTo>
                <a:close/>
                <a:moveTo>
                  <a:pt x="770" y="0"/>
                </a:moveTo>
                <a:cubicBezTo>
                  <a:pt x="773" y="7"/>
                  <a:pt x="775" y="14"/>
                  <a:pt x="778" y="22"/>
                </a:cubicBezTo>
                <a:cubicBezTo>
                  <a:pt x="786" y="22"/>
                  <a:pt x="794" y="22"/>
                  <a:pt x="802" y="22"/>
                </a:cubicBezTo>
                <a:cubicBezTo>
                  <a:pt x="795" y="26"/>
                  <a:pt x="789" y="31"/>
                  <a:pt x="782" y="35"/>
                </a:cubicBezTo>
                <a:cubicBezTo>
                  <a:pt x="785" y="43"/>
                  <a:pt x="787" y="50"/>
                  <a:pt x="790" y="57"/>
                </a:cubicBezTo>
                <a:cubicBezTo>
                  <a:pt x="783" y="53"/>
                  <a:pt x="777" y="48"/>
                  <a:pt x="770" y="44"/>
                </a:cubicBezTo>
                <a:cubicBezTo>
                  <a:pt x="764" y="48"/>
                  <a:pt x="757" y="53"/>
                  <a:pt x="750" y="57"/>
                </a:cubicBezTo>
                <a:cubicBezTo>
                  <a:pt x="753" y="50"/>
                  <a:pt x="755" y="43"/>
                  <a:pt x="758" y="35"/>
                </a:cubicBezTo>
                <a:cubicBezTo>
                  <a:pt x="751" y="31"/>
                  <a:pt x="745" y="26"/>
                  <a:pt x="738" y="22"/>
                </a:cubicBezTo>
                <a:cubicBezTo>
                  <a:pt x="746" y="22"/>
                  <a:pt x="754" y="22"/>
                  <a:pt x="763" y="22"/>
                </a:cubicBezTo>
                <a:cubicBezTo>
                  <a:pt x="765" y="14"/>
                  <a:pt x="768" y="7"/>
                  <a:pt x="770" y="0"/>
                </a:cubicBezTo>
                <a:close/>
                <a:moveTo>
                  <a:pt x="831" y="0"/>
                </a:moveTo>
                <a:cubicBezTo>
                  <a:pt x="833" y="7"/>
                  <a:pt x="836" y="14"/>
                  <a:pt x="838" y="22"/>
                </a:cubicBezTo>
                <a:cubicBezTo>
                  <a:pt x="846" y="22"/>
                  <a:pt x="854" y="22"/>
                  <a:pt x="863" y="22"/>
                </a:cubicBezTo>
                <a:cubicBezTo>
                  <a:pt x="856" y="26"/>
                  <a:pt x="849" y="31"/>
                  <a:pt x="843" y="35"/>
                </a:cubicBezTo>
                <a:cubicBezTo>
                  <a:pt x="845" y="43"/>
                  <a:pt x="848" y="50"/>
                  <a:pt x="850" y="57"/>
                </a:cubicBezTo>
                <a:cubicBezTo>
                  <a:pt x="844" y="53"/>
                  <a:pt x="837" y="48"/>
                  <a:pt x="831" y="44"/>
                </a:cubicBezTo>
                <a:cubicBezTo>
                  <a:pt x="824" y="48"/>
                  <a:pt x="818" y="53"/>
                  <a:pt x="811" y="57"/>
                </a:cubicBezTo>
                <a:cubicBezTo>
                  <a:pt x="813" y="50"/>
                  <a:pt x="816" y="43"/>
                  <a:pt x="818" y="35"/>
                </a:cubicBezTo>
                <a:cubicBezTo>
                  <a:pt x="812" y="31"/>
                  <a:pt x="805" y="26"/>
                  <a:pt x="799" y="22"/>
                </a:cubicBezTo>
                <a:cubicBezTo>
                  <a:pt x="807" y="22"/>
                  <a:pt x="815" y="22"/>
                  <a:pt x="823" y="22"/>
                </a:cubicBezTo>
                <a:cubicBezTo>
                  <a:pt x="826" y="14"/>
                  <a:pt x="828" y="7"/>
                  <a:pt x="831" y="0"/>
                </a:cubicBezTo>
                <a:close/>
                <a:moveTo>
                  <a:pt x="891" y="0"/>
                </a:moveTo>
                <a:cubicBezTo>
                  <a:pt x="894" y="7"/>
                  <a:pt x="896" y="14"/>
                  <a:pt x="899" y="22"/>
                </a:cubicBezTo>
                <a:cubicBezTo>
                  <a:pt x="907" y="22"/>
                  <a:pt x="915" y="22"/>
                  <a:pt x="923" y="22"/>
                </a:cubicBezTo>
                <a:cubicBezTo>
                  <a:pt x="917" y="26"/>
                  <a:pt x="910" y="31"/>
                  <a:pt x="903" y="35"/>
                </a:cubicBezTo>
                <a:cubicBezTo>
                  <a:pt x="906" y="43"/>
                  <a:pt x="908" y="50"/>
                  <a:pt x="911" y="57"/>
                </a:cubicBezTo>
                <a:cubicBezTo>
                  <a:pt x="904" y="53"/>
                  <a:pt x="898" y="48"/>
                  <a:pt x="891" y="44"/>
                </a:cubicBezTo>
                <a:cubicBezTo>
                  <a:pt x="885" y="48"/>
                  <a:pt x="878" y="53"/>
                  <a:pt x="872" y="57"/>
                </a:cubicBezTo>
                <a:cubicBezTo>
                  <a:pt x="874" y="50"/>
                  <a:pt x="877" y="43"/>
                  <a:pt x="879" y="35"/>
                </a:cubicBezTo>
                <a:cubicBezTo>
                  <a:pt x="872" y="31"/>
                  <a:pt x="866" y="26"/>
                  <a:pt x="859" y="22"/>
                </a:cubicBezTo>
                <a:cubicBezTo>
                  <a:pt x="867" y="22"/>
                  <a:pt x="876" y="22"/>
                  <a:pt x="884" y="22"/>
                </a:cubicBezTo>
                <a:cubicBezTo>
                  <a:pt x="886" y="14"/>
                  <a:pt x="889" y="7"/>
                  <a:pt x="891" y="0"/>
                </a:cubicBezTo>
                <a:close/>
                <a:moveTo>
                  <a:pt x="947" y="18"/>
                </a:moveTo>
                <a:cubicBezTo>
                  <a:pt x="950" y="25"/>
                  <a:pt x="952" y="33"/>
                  <a:pt x="955" y="40"/>
                </a:cubicBezTo>
                <a:cubicBezTo>
                  <a:pt x="963" y="40"/>
                  <a:pt x="971" y="40"/>
                  <a:pt x="979" y="40"/>
                </a:cubicBezTo>
                <a:cubicBezTo>
                  <a:pt x="973" y="45"/>
                  <a:pt x="966" y="49"/>
                  <a:pt x="959" y="54"/>
                </a:cubicBezTo>
                <a:cubicBezTo>
                  <a:pt x="962" y="61"/>
                  <a:pt x="964" y="68"/>
                  <a:pt x="967" y="76"/>
                </a:cubicBezTo>
                <a:cubicBezTo>
                  <a:pt x="960" y="71"/>
                  <a:pt x="954" y="67"/>
                  <a:pt x="947" y="62"/>
                </a:cubicBezTo>
                <a:cubicBezTo>
                  <a:pt x="941" y="67"/>
                  <a:pt x="934" y="71"/>
                  <a:pt x="928" y="76"/>
                </a:cubicBezTo>
                <a:cubicBezTo>
                  <a:pt x="930" y="68"/>
                  <a:pt x="933" y="61"/>
                  <a:pt x="935" y="54"/>
                </a:cubicBezTo>
                <a:cubicBezTo>
                  <a:pt x="928" y="49"/>
                  <a:pt x="922" y="45"/>
                  <a:pt x="915" y="40"/>
                </a:cubicBezTo>
                <a:cubicBezTo>
                  <a:pt x="923" y="40"/>
                  <a:pt x="932" y="40"/>
                  <a:pt x="940" y="40"/>
                </a:cubicBezTo>
                <a:cubicBezTo>
                  <a:pt x="942" y="33"/>
                  <a:pt x="945" y="25"/>
                  <a:pt x="947" y="18"/>
                </a:cubicBezTo>
                <a:close/>
                <a:moveTo>
                  <a:pt x="971" y="72"/>
                </a:moveTo>
                <a:cubicBezTo>
                  <a:pt x="974" y="79"/>
                  <a:pt x="976" y="86"/>
                  <a:pt x="979" y="94"/>
                </a:cubicBezTo>
                <a:cubicBezTo>
                  <a:pt x="987" y="94"/>
                  <a:pt x="995" y="94"/>
                  <a:pt x="1003" y="94"/>
                </a:cubicBezTo>
                <a:cubicBezTo>
                  <a:pt x="997" y="98"/>
                  <a:pt x="990" y="103"/>
                  <a:pt x="984" y="107"/>
                </a:cubicBezTo>
                <a:cubicBezTo>
                  <a:pt x="986" y="115"/>
                  <a:pt x="989" y="122"/>
                  <a:pt x="991" y="129"/>
                </a:cubicBezTo>
                <a:cubicBezTo>
                  <a:pt x="985" y="125"/>
                  <a:pt x="978" y="120"/>
                  <a:pt x="971" y="116"/>
                </a:cubicBezTo>
                <a:cubicBezTo>
                  <a:pt x="965" y="120"/>
                  <a:pt x="958" y="125"/>
                  <a:pt x="952" y="129"/>
                </a:cubicBezTo>
                <a:cubicBezTo>
                  <a:pt x="954" y="122"/>
                  <a:pt x="957" y="115"/>
                  <a:pt x="959" y="107"/>
                </a:cubicBezTo>
                <a:cubicBezTo>
                  <a:pt x="953" y="103"/>
                  <a:pt x="946" y="98"/>
                  <a:pt x="940" y="94"/>
                </a:cubicBezTo>
                <a:cubicBezTo>
                  <a:pt x="948" y="94"/>
                  <a:pt x="956" y="94"/>
                  <a:pt x="964" y="94"/>
                </a:cubicBezTo>
                <a:cubicBezTo>
                  <a:pt x="966" y="86"/>
                  <a:pt x="969" y="79"/>
                  <a:pt x="971" y="72"/>
                </a:cubicBezTo>
                <a:close/>
                <a:moveTo>
                  <a:pt x="971" y="132"/>
                </a:moveTo>
                <a:cubicBezTo>
                  <a:pt x="974" y="140"/>
                  <a:pt x="976" y="147"/>
                  <a:pt x="979" y="154"/>
                </a:cubicBezTo>
                <a:cubicBezTo>
                  <a:pt x="987" y="154"/>
                  <a:pt x="995" y="154"/>
                  <a:pt x="1003" y="154"/>
                </a:cubicBezTo>
                <a:cubicBezTo>
                  <a:pt x="997" y="159"/>
                  <a:pt x="990" y="163"/>
                  <a:pt x="984" y="168"/>
                </a:cubicBezTo>
                <a:cubicBezTo>
                  <a:pt x="986" y="175"/>
                  <a:pt x="989" y="183"/>
                  <a:pt x="991" y="190"/>
                </a:cubicBezTo>
                <a:cubicBezTo>
                  <a:pt x="985" y="185"/>
                  <a:pt x="978" y="181"/>
                  <a:pt x="971" y="176"/>
                </a:cubicBezTo>
                <a:cubicBezTo>
                  <a:pt x="965" y="181"/>
                  <a:pt x="958" y="185"/>
                  <a:pt x="952" y="190"/>
                </a:cubicBezTo>
                <a:cubicBezTo>
                  <a:pt x="954" y="183"/>
                  <a:pt x="957" y="175"/>
                  <a:pt x="959" y="168"/>
                </a:cubicBezTo>
                <a:cubicBezTo>
                  <a:pt x="953" y="163"/>
                  <a:pt x="946" y="159"/>
                  <a:pt x="940" y="154"/>
                </a:cubicBezTo>
                <a:cubicBezTo>
                  <a:pt x="948" y="154"/>
                  <a:pt x="956" y="154"/>
                  <a:pt x="964" y="154"/>
                </a:cubicBezTo>
                <a:cubicBezTo>
                  <a:pt x="966" y="147"/>
                  <a:pt x="969" y="140"/>
                  <a:pt x="971" y="132"/>
                </a:cubicBezTo>
                <a:close/>
                <a:moveTo>
                  <a:pt x="971" y="193"/>
                </a:moveTo>
                <a:cubicBezTo>
                  <a:pt x="974" y="200"/>
                  <a:pt x="976" y="207"/>
                  <a:pt x="979" y="215"/>
                </a:cubicBezTo>
                <a:cubicBezTo>
                  <a:pt x="987" y="215"/>
                  <a:pt x="995" y="215"/>
                  <a:pt x="1003" y="215"/>
                </a:cubicBezTo>
                <a:cubicBezTo>
                  <a:pt x="997" y="219"/>
                  <a:pt x="990" y="224"/>
                  <a:pt x="984" y="228"/>
                </a:cubicBezTo>
                <a:cubicBezTo>
                  <a:pt x="986" y="236"/>
                  <a:pt x="989" y="243"/>
                  <a:pt x="991" y="250"/>
                </a:cubicBezTo>
                <a:cubicBezTo>
                  <a:pt x="985" y="246"/>
                  <a:pt x="978" y="241"/>
                  <a:pt x="971" y="237"/>
                </a:cubicBezTo>
                <a:cubicBezTo>
                  <a:pt x="965" y="241"/>
                  <a:pt x="958" y="246"/>
                  <a:pt x="952" y="250"/>
                </a:cubicBezTo>
                <a:cubicBezTo>
                  <a:pt x="954" y="243"/>
                  <a:pt x="957" y="236"/>
                  <a:pt x="959" y="228"/>
                </a:cubicBezTo>
                <a:cubicBezTo>
                  <a:pt x="953" y="224"/>
                  <a:pt x="946" y="219"/>
                  <a:pt x="940" y="215"/>
                </a:cubicBezTo>
                <a:cubicBezTo>
                  <a:pt x="948" y="215"/>
                  <a:pt x="956" y="215"/>
                  <a:pt x="964" y="215"/>
                </a:cubicBezTo>
                <a:cubicBezTo>
                  <a:pt x="966" y="207"/>
                  <a:pt x="969" y="200"/>
                  <a:pt x="971" y="193"/>
                </a:cubicBezTo>
                <a:close/>
                <a:moveTo>
                  <a:pt x="971" y="253"/>
                </a:moveTo>
                <a:cubicBezTo>
                  <a:pt x="974" y="261"/>
                  <a:pt x="976" y="268"/>
                  <a:pt x="979" y="275"/>
                </a:cubicBezTo>
                <a:cubicBezTo>
                  <a:pt x="987" y="275"/>
                  <a:pt x="995" y="275"/>
                  <a:pt x="1003" y="275"/>
                </a:cubicBezTo>
                <a:cubicBezTo>
                  <a:pt x="997" y="280"/>
                  <a:pt x="990" y="284"/>
                  <a:pt x="984" y="289"/>
                </a:cubicBezTo>
                <a:cubicBezTo>
                  <a:pt x="986" y="296"/>
                  <a:pt x="989" y="304"/>
                  <a:pt x="991" y="311"/>
                </a:cubicBezTo>
                <a:cubicBezTo>
                  <a:pt x="985" y="306"/>
                  <a:pt x="978" y="302"/>
                  <a:pt x="971" y="297"/>
                </a:cubicBezTo>
                <a:cubicBezTo>
                  <a:pt x="965" y="302"/>
                  <a:pt x="958" y="306"/>
                  <a:pt x="952" y="311"/>
                </a:cubicBezTo>
                <a:cubicBezTo>
                  <a:pt x="954" y="304"/>
                  <a:pt x="957" y="296"/>
                  <a:pt x="959" y="289"/>
                </a:cubicBezTo>
                <a:cubicBezTo>
                  <a:pt x="953" y="284"/>
                  <a:pt x="946" y="280"/>
                  <a:pt x="940" y="275"/>
                </a:cubicBezTo>
                <a:cubicBezTo>
                  <a:pt x="948" y="275"/>
                  <a:pt x="956" y="275"/>
                  <a:pt x="964" y="275"/>
                </a:cubicBezTo>
                <a:cubicBezTo>
                  <a:pt x="966" y="268"/>
                  <a:pt x="969" y="261"/>
                  <a:pt x="971" y="253"/>
                </a:cubicBezTo>
                <a:close/>
                <a:moveTo>
                  <a:pt x="971" y="314"/>
                </a:moveTo>
                <a:cubicBezTo>
                  <a:pt x="974" y="321"/>
                  <a:pt x="976" y="328"/>
                  <a:pt x="979" y="336"/>
                </a:cubicBezTo>
                <a:cubicBezTo>
                  <a:pt x="987" y="336"/>
                  <a:pt x="995" y="336"/>
                  <a:pt x="1003" y="336"/>
                </a:cubicBezTo>
                <a:cubicBezTo>
                  <a:pt x="997" y="340"/>
                  <a:pt x="990" y="345"/>
                  <a:pt x="984" y="349"/>
                </a:cubicBezTo>
                <a:cubicBezTo>
                  <a:pt x="986" y="357"/>
                  <a:pt x="989" y="364"/>
                  <a:pt x="991" y="371"/>
                </a:cubicBezTo>
                <a:cubicBezTo>
                  <a:pt x="985" y="367"/>
                  <a:pt x="978" y="362"/>
                  <a:pt x="971" y="358"/>
                </a:cubicBezTo>
                <a:cubicBezTo>
                  <a:pt x="965" y="362"/>
                  <a:pt x="958" y="367"/>
                  <a:pt x="952" y="371"/>
                </a:cubicBezTo>
                <a:cubicBezTo>
                  <a:pt x="954" y="364"/>
                  <a:pt x="957" y="357"/>
                  <a:pt x="959" y="349"/>
                </a:cubicBezTo>
                <a:cubicBezTo>
                  <a:pt x="953" y="345"/>
                  <a:pt x="946" y="340"/>
                  <a:pt x="940" y="336"/>
                </a:cubicBezTo>
                <a:cubicBezTo>
                  <a:pt x="948" y="336"/>
                  <a:pt x="956" y="336"/>
                  <a:pt x="964" y="336"/>
                </a:cubicBezTo>
                <a:cubicBezTo>
                  <a:pt x="966" y="328"/>
                  <a:pt x="969" y="321"/>
                  <a:pt x="971" y="314"/>
                </a:cubicBezTo>
                <a:close/>
                <a:moveTo>
                  <a:pt x="971" y="374"/>
                </a:moveTo>
                <a:cubicBezTo>
                  <a:pt x="974" y="382"/>
                  <a:pt x="976" y="389"/>
                  <a:pt x="979" y="396"/>
                </a:cubicBezTo>
                <a:cubicBezTo>
                  <a:pt x="987" y="396"/>
                  <a:pt x="995" y="396"/>
                  <a:pt x="1003" y="396"/>
                </a:cubicBezTo>
                <a:cubicBezTo>
                  <a:pt x="997" y="401"/>
                  <a:pt x="990" y="405"/>
                  <a:pt x="984" y="410"/>
                </a:cubicBezTo>
                <a:cubicBezTo>
                  <a:pt x="986" y="417"/>
                  <a:pt x="989" y="425"/>
                  <a:pt x="991" y="432"/>
                </a:cubicBezTo>
                <a:cubicBezTo>
                  <a:pt x="985" y="427"/>
                  <a:pt x="978" y="423"/>
                  <a:pt x="971" y="418"/>
                </a:cubicBezTo>
                <a:cubicBezTo>
                  <a:pt x="965" y="423"/>
                  <a:pt x="958" y="427"/>
                  <a:pt x="952" y="432"/>
                </a:cubicBezTo>
                <a:cubicBezTo>
                  <a:pt x="954" y="425"/>
                  <a:pt x="957" y="417"/>
                  <a:pt x="959" y="410"/>
                </a:cubicBezTo>
                <a:cubicBezTo>
                  <a:pt x="953" y="405"/>
                  <a:pt x="946" y="401"/>
                  <a:pt x="940" y="396"/>
                </a:cubicBezTo>
                <a:cubicBezTo>
                  <a:pt x="948" y="396"/>
                  <a:pt x="956" y="396"/>
                  <a:pt x="964" y="396"/>
                </a:cubicBezTo>
                <a:cubicBezTo>
                  <a:pt x="966" y="389"/>
                  <a:pt x="969" y="382"/>
                  <a:pt x="971" y="374"/>
                </a:cubicBezTo>
                <a:close/>
                <a:moveTo>
                  <a:pt x="971" y="435"/>
                </a:moveTo>
                <a:cubicBezTo>
                  <a:pt x="974" y="442"/>
                  <a:pt x="976" y="449"/>
                  <a:pt x="979" y="457"/>
                </a:cubicBezTo>
                <a:cubicBezTo>
                  <a:pt x="987" y="457"/>
                  <a:pt x="995" y="457"/>
                  <a:pt x="1003" y="457"/>
                </a:cubicBezTo>
                <a:cubicBezTo>
                  <a:pt x="997" y="461"/>
                  <a:pt x="990" y="466"/>
                  <a:pt x="984" y="470"/>
                </a:cubicBezTo>
                <a:cubicBezTo>
                  <a:pt x="986" y="478"/>
                  <a:pt x="989" y="485"/>
                  <a:pt x="991" y="492"/>
                </a:cubicBezTo>
                <a:cubicBezTo>
                  <a:pt x="985" y="488"/>
                  <a:pt x="978" y="483"/>
                  <a:pt x="971" y="479"/>
                </a:cubicBezTo>
                <a:cubicBezTo>
                  <a:pt x="965" y="483"/>
                  <a:pt x="958" y="488"/>
                  <a:pt x="952" y="492"/>
                </a:cubicBezTo>
                <a:cubicBezTo>
                  <a:pt x="954" y="485"/>
                  <a:pt x="957" y="478"/>
                  <a:pt x="959" y="470"/>
                </a:cubicBezTo>
                <a:cubicBezTo>
                  <a:pt x="953" y="466"/>
                  <a:pt x="946" y="461"/>
                  <a:pt x="940" y="457"/>
                </a:cubicBezTo>
                <a:cubicBezTo>
                  <a:pt x="948" y="457"/>
                  <a:pt x="956" y="457"/>
                  <a:pt x="964" y="457"/>
                </a:cubicBezTo>
                <a:cubicBezTo>
                  <a:pt x="966" y="449"/>
                  <a:pt x="969" y="442"/>
                  <a:pt x="971" y="435"/>
                </a:cubicBezTo>
                <a:close/>
                <a:moveTo>
                  <a:pt x="971" y="495"/>
                </a:moveTo>
                <a:cubicBezTo>
                  <a:pt x="974" y="503"/>
                  <a:pt x="976" y="510"/>
                  <a:pt x="979" y="517"/>
                </a:cubicBezTo>
                <a:cubicBezTo>
                  <a:pt x="987" y="517"/>
                  <a:pt x="995" y="517"/>
                  <a:pt x="1003" y="517"/>
                </a:cubicBezTo>
                <a:cubicBezTo>
                  <a:pt x="997" y="522"/>
                  <a:pt x="990" y="526"/>
                  <a:pt x="984" y="531"/>
                </a:cubicBezTo>
                <a:cubicBezTo>
                  <a:pt x="986" y="538"/>
                  <a:pt x="989" y="546"/>
                  <a:pt x="991" y="553"/>
                </a:cubicBezTo>
                <a:cubicBezTo>
                  <a:pt x="985" y="548"/>
                  <a:pt x="978" y="544"/>
                  <a:pt x="971" y="539"/>
                </a:cubicBezTo>
                <a:cubicBezTo>
                  <a:pt x="965" y="544"/>
                  <a:pt x="958" y="548"/>
                  <a:pt x="952" y="553"/>
                </a:cubicBezTo>
                <a:cubicBezTo>
                  <a:pt x="954" y="546"/>
                  <a:pt x="957" y="538"/>
                  <a:pt x="959" y="531"/>
                </a:cubicBezTo>
                <a:cubicBezTo>
                  <a:pt x="953" y="526"/>
                  <a:pt x="946" y="522"/>
                  <a:pt x="940" y="517"/>
                </a:cubicBezTo>
                <a:cubicBezTo>
                  <a:pt x="948" y="517"/>
                  <a:pt x="956" y="517"/>
                  <a:pt x="964" y="517"/>
                </a:cubicBezTo>
                <a:cubicBezTo>
                  <a:pt x="966" y="510"/>
                  <a:pt x="969" y="503"/>
                  <a:pt x="971" y="495"/>
                </a:cubicBezTo>
                <a:close/>
                <a:moveTo>
                  <a:pt x="971" y="556"/>
                </a:moveTo>
                <a:cubicBezTo>
                  <a:pt x="974" y="563"/>
                  <a:pt x="976" y="571"/>
                  <a:pt x="979" y="578"/>
                </a:cubicBezTo>
                <a:cubicBezTo>
                  <a:pt x="987" y="578"/>
                  <a:pt x="995" y="578"/>
                  <a:pt x="1003" y="578"/>
                </a:cubicBezTo>
                <a:cubicBezTo>
                  <a:pt x="997" y="582"/>
                  <a:pt x="990" y="587"/>
                  <a:pt x="984" y="591"/>
                </a:cubicBezTo>
                <a:cubicBezTo>
                  <a:pt x="986" y="599"/>
                  <a:pt x="989" y="606"/>
                  <a:pt x="991" y="614"/>
                </a:cubicBezTo>
                <a:cubicBezTo>
                  <a:pt x="985" y="609"/>
                  <a:pt x="978" y="604"/>
                  <a:pt x="971" y="600"/>
                </a:cubicBezTo>
                <a:cubicBezTo>
                  <a:pt x="965" y="604"/>
                  <a:pt x="958" y="609"/>
                  <a:pt x="952" y="614"/>
                </a:cubicBezTo>
                <a:cubicBezTo>
                  <a:pt x="954" y="606"/>
                  <a:pt x="957" y="599"/>
                  <a:pt x="959" y="591"/>
                </a:cubicBezTo>
                <a:cubicBezTo>
                  <a:pt x="953" y="587"/>
                  <a:pt x="946" y="582"/>
                  <a:pt x="940" y="578"/>
                </a:cubicBezTo>
                <a:cubicBezTo>
                  <a:pt x="948" y="578"/>
                  <a:pt x="956" y="578"/>
                  <a:pt x="964" y="578"/>
                </a:cubicBezTo>
                <a:cubicBezTo>
                  <a:pt x="966" y="571"/>
                  <a:pt x="969" y="563"/>
                  <a:pt x="971" y="556"/>
                </a:cubicBezTo>
                <a:close/>
                <a:moveTo>
                  <a:pt x="953" y="612"/>
                </a:moveTo>
                <a:cubicBezTo>
                  <a:pt x="955" y="619"/>
                  <a:pt x="958" y="626"/>
                  <a:pt x="960" y="634"/>
                </a:cubicBezTo>
                <a:cubicBezTo>
                  <a:pt x="968" y="634"/>
                  <a:pt x="977" y="634"/>
                  <a:pt x="985" y="634"/>
                </a:cubicBezTo>
                <a:cubicBezTo>
                  <a:pt x="978" y="638"/>
                  <a:pt x="972" y="643"/>
                  <a:pt x="965" y="647"/>
                </a:cubicBezTo>
                <a:cubicBezTo>
                  <a:pt x="967" y="655"/>
                  <a:pt x="970" y="662"/>
                  <a:pt x="973" y="669"/>
                </a:cubicBezTo>
                <a:cubicBezTo>
                  <a:pt x="966" y="665"/>
                  <a:pt x="959" y="660"/>
                  <a:pt x="953" y="656"/>
                </a:cubicBezTo>
                <a:cubicBezTo>
                  <a:pt x="946" y="660"/>
                  <a:pt x="940" y="665"/>
                  <a:pt x="933" y="669"/>
                </a:cubicBezTo>
                <a:cubicBezTo>
                  <a:pt x="936" y="662"/>
                  <a:pt x="938" y="655"/>
                  <a:pt x="941" y="647"/>
                </a:cubicBezTo>
                <a:cubicBezTo>
                  <a:pt x="934" y="643"/>
                  <a:pt x="928" y="638"/>
                  <a:pt x="921" y="634"/>
                </a:cubicBezTo>
                <a:cubicBezTo>
                  <a:pt x="929" y="634"/>
                  <a:pt x="937" y="634"/>
                  <a:pt x="945" y="634"/>
                </a:cubicBezTo>
                <a:cubicBezTo>
                  <a:pt x="948" y="626"/>
                  <a:pt x="950" y="619"/>
                  <a:pt x="953" y="612"/>
                </a:cubicBezTo>
                <a:close/>
                <a:moveTo>
                  <a:pt x="899" y="636"/>
                </a:moveTo>
                <a:cubicBezTo>
                  <a:pt x="902" y="643"/>
                  <a:pt x="904" y="650"/>
                  <a:pt x="907" y="658"/>
                </a:cubicBezTo>
                <a:cubicBezTo>
                  <a:pt x="915" y="658"/>
                  <a:pt x="923" y="658"/>
                  <a:pt x="931" y="658"/>
                </a:cubicBezTo>
                <a:cubicBezTo>
                  <a:pt x="924" y="662"/>
                  <a:pt x="918" y="667"/>
                  <a:pt x="911" y="671"/>
                </a:cubicBezTo>
                <a:cubicBezTo>
                  <a:pt x="914" y="679"/>
                  <a:pt x="916" y="686"/>
                  <a:pt x="919" y="693"/>
                </a:cubicBezTo>
                <a:cubicBezTo>
                  <a:pt x="912" y="689"/>
                  <a:pt x="906" y="684"/>
                  <a:pt x="899" y="680"/>
                </a:cubicBezTo>
                <a:cubicBezTo>
                  <a:pt x="893" y="684"/>
                  <a:pt x="886" y="689"/>
                  <a:pt x="879" y="693"/>
                </a:cubicBezTo>
                <a:cubicBezTo>
                  <a:pt x="882" y="686"/>
                  <a:pt x="884" y="679"/>
                  <a:pt x="887" y="671"/>
                </a:cubicBezTo>
                <a:cubicBezTo>
                  <a:pt x="880" y="667"/>
                  <a:pt x="874" y="662"/>
                  <a:pt x="867" y="658"/>
                </a:cubicBezTo>
                <a:cubicBezTo>
                  <a:pt x="875" y="658"/>
                  <a:pt x="884" y="658"/>
                  <a:pt x="892" y="658"/>
                </a:cubicBezTo>
                <a:cubicBezTo>
                  <a:pt x="894" y="650"/>
                  <a:pt x="897" y="643"/>
                  <a:pt x="899" y="636"/>
                </a:cubicBezTo>
                <a:close/>
                <a:moveTo>
                  <a:pt x="839" y="636"/>
                </a:moveTo>
                <a:cubicBezTo>
                  <a:pt x="841" y="643"/>
                  <a:pt x="844" y="650"/>
                  <a:pt x="846" y="658"/>
                </a:cubicBezTo>
                <a:cubicBezTo>
                  <a:pt x="854" y="658"/>
                  <a:pt x="862" y="658"/>
                  <a:pt x="870" y="658"/>
                </a:cubicBezTo>
                <a:cubicBezTo>
                  <a:pt x="864" y="662"/>
                  <a:pt x="857" y="667"/>
                  <a:pt x="851" y="671"/>
                </a:cubicBezTo>
                <a:cubicBezTo>
                  <a:pt x="853" y="679"/>
                  <a:pt x="856" y="686"/>
                  <a:pt x="858" y="693"/>
                </a:cubicBezTo>
                <a:cubicBezTo>
                  <a:pt x="852" y="689"/>
                  <a:pt x="845" y="684"/>
                  <a:pt x="839" y="680"/>
                </a:cubicBezTo>
                <a:cubicBezTo>
                  <a:pt x="832" y="684"/>
                  <a:pt x="825" y="689"/>
                  <a:pt x="819" y="693"/>
                </a:cubicBezTo>
                <a:cubicBezTo>
                  <a:pt x="821" y="686"/>
                  <a:pt x="824" y="679"/>
                  <a:pt x="826" y="671"/>
                </a:cubicBezTo>
                <a:cubicBezTo>
                  <a:pt x="820" y="667"/>
                  <a:pt x="813" y="662"/>
                  <a:pt x="807" y="658"/>
                </a:cubicBezTo>
                <a:cubicBezTo>
                  <a:pt x="815" y="658"/>
                  <a:pt x="823" y="658"/>
                  <a:pt x="831" y="658"/>
                </a:cubicBezTo>
                <a:cubicBezTo>
                  <a:pt x="834" y="650"/>
                  <a:pt x="836" y="643"/>
                  <a:pt x="839" y="636"/>
                </a:cubicBezTo>
                <a:close/>
                <a:moveTo>
                  <a:pt x="778" y="636"/>
                </a:moveTo>
                <a:cubicBezTo>
                  <a:pt x="781" y="643"/>
                  <a:pt x="783" y="650"/>
                  <a:pt x="786" y="658"/>
                </a:cubicBezTo>
                <a:cubicBezTo>
                  <a:pt x="794" y="658"/>
                  <a:pt x="802" y="658"/>
                  <a:pt x="810" y="658"/>
                </a:cubicBezTo>
                <a:cubicBezTo>
                  <a:pt x="803" y="662"/>
                  <a:pt x="797" y="667"/>
                  <a:pt x="790" y="671"/>
                </a:cubicBezTo>
                <a:cubicBezTo>
                  <a:pt x="793" y="679"/>
                  <a:pt x="795" y="686"/>
                  <a:pt x="798" y="693"/>
                </a:cubicBezTo>
                <a:cubicBezTo>
                  <a:pt x="791" y="689"/>
                  <a:pt x="785" y="684"/>
                  <a:pt x="778" y="680"/>
                </a:cubicBezTo>
                <a:cubicBezTo>
                  <a:pt x="771" y="684"/>
                  <a:pt x="765" y="689"/>
                  <a:pt x="758" y="693"/>
                </a:cubicBezTo>
                <a:cubicBezTo>
                  <a:pt x="761" y="686"/>
                  <a:pt x="763" y="679"/>
                  <a:pt x="766" y="671"/>
                </a:cubicBezTo>
                <a:cubicBezTo>
                  <a:pt x="759" y="667"/>
                  <a:pt x="753" y="662"/>
                  <a:pt x="746" y="658"/>
                </a:cubicBezTo>
                <a:cubicBezTo>
                  <a:pt x="754" y="658"/>
                  <a:pt x="762" y="658"/>
                  <a:pt x="770" y="658"/>
                </a:cubicBezTo>
                <a:cubicBezTo>
                  <a:pt x="773" y="650"/>
                  <a:pt x="776" y="643"/>
                  <a:pt x="778" y="636"/>
                </a:cubicBezTo>
                <a:close/>
                <a:moveTo>
                  <a:pt x="717" y="636"/>
                </a:moveTo>
                <a:cubicBezTo>
                  <a:pt x="720" y="643"/>
                  <a:pt x="722" y="650"/>
                  <a:pt x="725" y="658"/>
                </a:cubicBezTo>
                <a:cubicBezTo>
                  <a:pt x="733" y="658"/>
                  <a:pt x="741" y="658"/>
                  <a:pt x="749" y="658"/>
                </a:cubicBezTo>
                <a:cubicBezTo>
                  <a:pt x="743" y="662"/>
                  <a:pt x="736" y="667"/>
                  <a:pt x="730" y="671"/>
                </a:cubicBezTo>
                <a:cubicBezTo>
                  <a:pt x="732" y="679"/>
                  <a:pt x="735" y="686"/>
                  <a:pt x="737" y="693"/>
                </a:cubicBezTo>
                <a:cubicBezTo>
                  <a:pt x="731" y="689"/>
                  <a:pt x="724" y="684"/>
                  <a:pt x="717" y="680"/>
                </a:cubicBezTo>
                <a:cubicBezTo>
                  <a:pt x="711" y="684"/>
                  <a:pt x="704" y="689"/>
                  <a:pt x="698" y="693"/>
                </a:cubicBezTo>
                <a:cubicBezTo>
                  <a:pt x="700" y="686"/>
                  <a:pt x="703" y="679"/>
                  <a:pt x="705" y="671"/>
                </a:cubicBezTo>
                <a:cubicBezTo>
                  <a:pt x="699" y="667"/>
                  <a:pt x="692" y="662"/>
                  <a:pt x="686" y="658"/>
                </a:cubicBezTo>
                <a:cubicBezTo>
                  <a:pt x="694" y="658"/>
                  <a:pt x="702" y="658"/>
                  <a:pt x="710" y="658"/>
                </a:cubicBezTo>
                <a:cubicBezTo>
                  <a:pt x="712" y="650"/>
                  <a:pt x="715" y="643"/>
                  <a:pt x="717" y="636"/>
                </a:cubicBezTo>
                <a:close/>
                <a:moveTo>
                  <a:pt x="657" y="636"/>
                </a:moveTo>
                <a:cubicBezTo>
                  <a:pt x="659" y="643"/>
                  <a:pt x="662" y="650"/>
                  <a:pt x="664" y="658"/>
                </a:cubicBezTo>
                <a:cubicBezTo>
                  <a:pt x="673" y="658"/>
                  <a:pt x="681" y="658"/>
                  <a:pt x="689" y="658"/>
                </a:cubicBezTo>
                <a:cubicBezTo>
                  <a:pt x="682" y="662"/>
                  <a:pt x="676" y="667"/>
                  <a:pt x="669" y="671"/>
                </a:cubicBezTo>
                <a:cubicBezTo>
                  <a:pt x="672" y="679"/>
                  <a:pt x="674" y="686"/>
                  <a:pt x="677" y="693"/>
                </a:cubicBezTo>
                <a:cubicBezTo>
                  <a:pt x="670" y="689"/>
                  <a:pt x="663" y="684"/>
                  <a:pt x="657" y="680"/>
                </a:cubicBezTo>
                <a:cubicBezTo>
                  <a:pt x="650" y="684"/>
                  <a:pt x="644" y="689"/>
                  <a:pt x="637" y="693"/>
                </a:cubicBezTo>
                <a:cubicBezTo>
                  <a:pt x="640" y="686"/>
                  <a:pt x="642" y="679"/>
                  <a:pt x="645" y="671"/>
                </a:cubicBezTo>
                <a:cubicBezTo>
                  <a:pt x="638" y="667"/>
                  <a:pt x="632" y="662"/>
                  <a:pt x="625" y="658"/>
                </a:cubicBezTo>
                <a:cubicBezTo>
                  <a:pt x="633" y="658"/>
                  <a:pt x="641" y="658"/>
                  <a:pt x="649" y="658"/>
                </a:cubicBezTo>
                <a:cubicBezTo>
                  <a:pt x="652" y="650"/>
                  <a:pt x="654" y="643"/>
                  <a:pt x="657" y="636"/>
                </a:cubicBezTo>
                <a:close/>
                <a:moveTo>
                  <a:pt x="596" y="636"/>
                </a:moveTo>
                <a:cubicBezTo>
                  <a:pt x="599" y="643"/>
                  <a:pt x="601" y="650"/>
                  <a:pt x="604" y="658"/>
                </a:cubicBezTo>
                <a:cubicBezTo>
                  <a:pt x="612" y="658"/>
                  <a:pt x="620" y="658"/>
                  <a:pt x="628" y="658"/>
                </a:cubicBezTo>
                <a:cubicBezTo>
                  <a:pt x="622" y="662"/>
                  <a:pt x="615" y="667"/>
                  <a:pt x="608" y="671"/>
                </a:cubicBezTo>
                <a:cubicBezTo>
                  <a:pt x="611" y="679"/>
                  <a:pt x="613" y="686"/>
                  <a:pt x="616" y="693"/>
                </a:cubicBezTo>
                <a:cubicBezTo>
                  <a:pt x="609" y="689"/>
                  <a:pt x="603" y="684"/>
                  <a:pt x="596" y="680"/>
                </a:cubicBezTo>
                <a:cubicBezTo>
                  <a:pt x="590" y="684"/>
                  <a:pt x="583" y="689"/>
                  <a:pt x="577" y="693"/>
                </a:cubicBezTo>
                <a:cubicBezTo>
                  <a:pt x="579" y="686"/>
                  <a:pt x="582" y="679"/>
                  <a:pt x="584" y="671"/>
                </a:cubicBezTo>
                <a:cubicBezTo>
                  <a:pt x="578" y="667"/>
                  <a:pt x="571" y="662"/>
                  <a:pt x="564" y="658"/>
                </a:cubicBezTo>
                <a:cubicBezTo>
                  <a:pt x="573" y="658"/>
                  <a:pt x="581" y="658"/>
                  <a:pt x="589" y="658"/>
                </a:cubicBezTo>
                <a:cubicBezTo>
                  <a:pt x="591" y="650"/>
                  <a:pt x="594" y="643"/>
                  <a:pt x="596" y="636"/>
                </a:cubicBezTo>
                <a:close/>
                <a:moveTo>
                  <a:pt x="536" y="636"/>
                </a:moveTo>
                <a:cubicBezTo>
                  <a:pt x="538" y="643"/>
                  <a:pt x="541" y="650"/>
                  <a:pt x="543" y="658"/>
                </a:cubicBezTo>
                <a:cubicBezTo>
                  <a:pt x="551" y="658"/>
                  <a:pt x="559" y="658"/>
                  <a:pt x="568" y="658"/>
                </a:cubicBezTo>
                <a:cubicBezTo>
                  <a:pt x="561" y="662"/>
                  <a:pt x="554" y="667"/>
                  <a:pt x="548" y="671"/>
                </a:cubicBezTo>
                <a:cubicBezTo>
                  <a:pt x="550" y="679"/>
                  <a:pt x="553" y="686"/>
                  <a:pt x="555" y="693"/>
                </a:cubicBezTo>
                <a:cubicBezTo>
                  <a:pt x="549" y="689"/>
                  <a:pt x="542" y="684"/>
                  <a:pt x="536" y="680"/>
                </a:cubicBezTo>
                <a:cubicBezTo>
                  <a:pt x="529" y="684"/>
                  <a:pt x="523" y="689"/>
                  <a:pt x="516" y="693"/>
                </a:cubicBezTo>
                <a:cubicBezTo>
                  <a:pt x="519" y="686"/>
                  <a:pt x="521" y="679"/>
                  <a:pt x="524" y="671"/>
                </a:cubicBezTo>
                <a:cubicBezTo>
                  <a:pt x="517" y="667"/>
                  <a:pt x="510" y="662"/>
                  <a:pt x="504" y="658"/>
                </a:cubicBezTo>
                <a:cubicBezTo>
                  <a:pt x="512" y="658"/>
                  <a:pt x="520" y="658"/>
                  <a:pt x="528" y="658"/>
                </a:cubicBezTo>
                <a:cubicBezTo>
                  <a:pt x="531" y="650"/>
                  <a:pt x="533" y="643"/>
                  <a:pt x="536" y="636"/>
                </a:cubicBezTo>
                <a:close/>
                <a:moveTo>
                  <a:pt x="475" y="636"/>
                </a:moveTo>
                <a:cubicBezTo>
                  <a:pt x="478" y="643"/>
                  <a:pt x="480" y="650"/>
                  <a:pt x="483" y="658"/>
                </a:cubicBezTo>
                <a:cubicBezTo>
                  <a:pt x="491" y="658"/>
                  <a:pt x="499" y="658"/>
                  <a:pt x="507" y="658"/>
                </a:cubicBezTo>
                <a:cubicBezTo>
                  <a:pt x="500" y="662"/>
                  <a:pt x="494" y="667"/>
                  <a:pt x="487" y="671"/>
                </a:cubicBezTo>
                <a:cubicBezTo>
                  <a:pt x="490" y="679"/>
                  <a:pt x="492" y="686"/>
                  <a:pt x="495" y="693"/>
                </a:cubicBezTo>
                <a:cubicBezTo>
                  <a:pt x="488" y="689"/>
                  <a:pt x="482" y="684"/>
                  <a:pt x="475" y="680"/>
                </a:cubicBezTo>
                <a:cubicBezTo>
                  <a:pt x="469" y="684"/>
                  <a:pt x="462" y="689"/>
                  <a:pt x="455" y="693"/>
                </a:cubicBezTo>
                <a:cubicBezTo>
                  <a:pt x="458" y="686"/>
                  <a:pt x="461" y="679"/>
                  <a:pt x="463" y="671"/>
                </a:cubicBezTo>
                <a:cubicBezTo>
                  <a:pt x="456" y="667"/>
                  <a:pt x="450" y="662"/>
                  <a:pt x="443" y="658"/>
                </a:cubicBezTo>
                <a:cubicBezTo>
                  <a:pt x="451" y="658"/>
                  <a:pt x="460" y="658"/>
                  <a:pt x="468" y="658"/>
                </a:cubicBezTo>
                <a:cubicBezTo>
                  <a:pt x="470" y="650"/>
                  <a:pt x="473" y="643"/>
                  <a:pt x="475" y="636"/>
                </a:cubicBezTo>
                <a:close/>
                <a:moveTo>
                  <a:pt x="415" y="636"/>
                </a:moveTo>
                <a:cubicBezTo>
                  <a:pt x="417" y="643"/>
                  <a:pt x="420" y="650"/>
                  <a:pt x="422" y="658"/>
                </a:cubicBezTo>
                <a:cubicBezTo>
                  <a:pt x="430" y="658"/>
                  <a:pt x="438" y="658"/>
                  <a:pt x="446" y="658"/>
                </a:cubicBezTo>
                <a:cubicBezTo>
                  <a:pt x="440" y="662"/>
                  <a:pt x="433" y="667"/>
                  <a:pt x="427" y="671"/>
                </a:cubicBezTo>
                <a:cubicBezTo>
                  <a:pt x="429" y="679"/>
                  <a:pt x="432" y="686"/>
                  <a:pt x="434" y="693"/>
                </a:cubicBezTo>
                <a:cubicBezTo>
                  <a:pt x="428" y="689"/>
                  <a:pt x="421" y="684"/>
                  <a:pt x="415" y="680"/>
                </a:cubicBezTo>
                <a:cubicBezTo>
                  <a:pt x="408" y="684"/>
                  <a:pt x="401" y="689"/>
                  <a:pt x="395" y="693"/>
                </a:cubicBezTo>
                <a:cubicBezTo>
                  <a:pt x="397" y="686"/>
                  <a:pt x="400" y="679"/>
                  <a:pt x="402" y="671"/>
                </a:cubicBezTo>
                <a:cubicBezTo>
                  <a:pt x="396" y="667"/>
                  <a:pt x="389" y="662"/>
                  <a:pt x="383" y="658"/>
                </a:cubicBezTo>
                <a:cubicBezTo>
                  <a:pt x="391" y="658"/>
                  <a:pt x="399" y="658"/>
                  <a:pt x="407" y="658"/>
                </a:cubicBezTo>
                <a:cubicBezTo>
                  <a:pt x="410" y="650"/>
                  <a:pt x="412" y="643"/>
                  <a:pt x="415" y="636"/>
                </a:cubicBezTo>
                <a:close/>
                <a:moveTo>
                  <a:pt x="354" y="636"/>
                </a:moveTo>
                <a:cubicBezTo>
                  <a:pt x="357" y="643"/>
                  <a:pt x="359" y="650"/>
                  <a:pt x="362" y="658"/>
                </a:cubicBezTo>
                <a:cubicBezTo>
                  <a:pt x="370" y="658"/>
                  <a:pt x="378" y="658"/>
                  <a:pt x="386" y="658"/>
                </a:cubicBezTo>
                <a:cubicBezTo>
                  <a:pt x="379" y="662"/>
                  <a:pt x="373" y="667"/>
                  <a:pt x="366" y="671"/>
                </a:cubicBezTo>
                <a:cubicBezTo>
                  <a:pt x="369" y="679"/>
                  <a:pt x="371" y="686"/>
                  <a:pt x="374" y="693"/>
                </a:cubicBezTo>
                <a:cubicBezTo>
                  <a:pt x="367" y="689"/>
                  <a:pt x="361" y="684"/>
                  <a:pt x="354" y="680"/>
                </a:cubicBezTo>
                <a:cubicBezTo>
                  <a:pt x="347" y="684"/>
                  <a:pt x="341" y="689"/>
                  <a:pt x="334" y="693"/>
                </a:cubicBezTo>
                <a:cubicBezTo>
                  <a:pt x="337" y="686"/>
                  <a:pt x="339" y="679"/>
                  <a:pt x="342" y="671"/>
                </a:cubicBezTo>
                <a:cubicBezTo>
                  <a:pt x="335" y="667"/>
                  <a:pt x="329" y="662"/>
                  <a:pt x="322" y="658"/>
                </a:cubicBezTo>
                <a:cubicBezTo>
                  <a:pt x="330" y="658"/>
                  <a:pt x="338" y="658"/>
                  <a:pt x="347" y="658"/>
                </a:cubicBezTo>
                <a:cubicBezTo>
                  <a:pt x="349" y="650"/>
                  <a:pt x="352" y="643"/>
                  <a:pt x="354" y="636"/>
                </a:cubicBezTo>
                <a:close/>
                <a:moveTo>
                  <a:pt x="293" y="636"/>
                </a:moveTo>
                <a:cubicBezTo>
                  <a:pt x="296" y="643"/>
                  <a:pt x="298" y="650"/>
                  <a:pt x="301" y="658"/>
                </a:cubicBezTo>
                <a:cubicBezTo>
                  <a:pt x="309" y="658"/>
                  <a:pt x="317" y="658"/>
                  <a:pt x="325" y="658"/>
                </a:cubicBezTo>
                <a:cubicBezTo>
                  <a:pt x="319" y="662"/>
                  <a:pt x="312" y="667"/>
                  <a:pt x="306" y="671"/>
                </a:cubicBezTo>
                <a:cubicBezTo>
                  <a:pt x="308" y="679"/>
                  <a:pt x="311" y="686"/>
                  <a:pt x="313" y="693"/>
                </a:cubicBezTo>
                <a:cubicBezTo>
                  <a:pt x="307" y="689"/>
                  <a:pt x="300" y="684"/>
                  <a:pt x="293" y="680"/>
                </a:cubicBezTo>
                <a:cubicBezTo>
                  <a:pt x="287" y="684"/>
                  <a:pt x="280" y="689"/>
                  <a:pt x="274" y="693"/>
                </a:cubicBezTo>
                <a:cubicBezTo>
                  <a:pt x="276" y="686"/>
                  <a:pt x="279" y="679"/>
                  <a:pt x="281" y="671"/>
                </a:cubicBezTo>
                <a:cubicBezTo>
                  <a:pt x="275" y="667"/>
                  <a:pt x="268" y="662"/>
                  <a:pt x="262" y="658"/>
                </a:cubicBezTo>
                <a:cubicBezTo>
                  <a:pt x="270" y="658"/>
                  <a:pt x="278" y="658"/>
                  <a:pt x="286" y="658"/>
                </a:cubicBezTo>
                <a:cubicBezTo>
                  <a:pt x="288" y="650"/>
                  <a:pt x="291" y="643"/>
                  <a:pt x="293" y="636"/>
                </a:cubicBezTo>
                <a:close/>
                <a:moveTo>
                  <a:pt x="233" y="636"/>
                </a:moveTo>
                <a:cubicBezTo>
                  <a:pt x="235" y="643"/>
                  <a:pt x="238" y="650"/>
                  <a:pt x="240" y="658"/>
                </a:cubicBezTo>
                <a:cubicBezTo>
                  <a:pt x="249" y="658"/>
                  <a:pt x="257" y="658"/>
                  <a:pt x="265" y="658"/>
                </a:cubicBezTo>
                <a:cubicBezTo>
                  <a:pt x="258" y="662"/>
                  <a:pt x="252" y="667"/>
                  <a:pt x="245" y="671"/>
                </a:cubicBezTo>
                <a:cubicBezTo>
                  <a:pt x="248" y="679"/>
                  <a:pt x="250" y="686"/>
                  <a:pt x="253" y="693"/>
                </a:cubicBezTo>
                <a:cubicBezTo>
                  <a:pt x="246" y="689"/>
                  <a:pt x="239" y="684"/>
                  <a:pt x="233" y="680"/>
                </a:cubicBezTo>
                <a:cubicBezTo>
                  <a:pt x="226" y="684"/>
                  <a:pt x="220" y="689"/>
                  <a:pt x="213" y="693"/>
                </a:cubicBezTo>
                <a:cubicBezTo>
                  <a:pt x="216" y="686"/>
                  <a:pt x="218" y="679"/>
                  <a:pt x="221" y="671"/>
                </a:cubicBezTo>
                <a:cubicBezTo>
                  <a:pt x="214" y="667"/>
                  <a:pt x="208" y="662"/>
                  <a:pt x="201" y="658"/>
                </a:cubicBezTo>
                <a:cubicBezTo>
                  <a:pt x="209" y="658"/>
                  <a:pt x="217" y="658"/>
                  <a:pt x="225" y="658"/>
                </a:cubicBezTo>
                <a:cubicBezTo>
                  <a:pt x="228" y="650"/>
                  <a:pt x="230" y="643"/>
                  <a:pt x="233" y="636"/>
                </a:cubicBezTo>
                <a:close/>
                <a:moveTo>
                  <a:pt x="172" y="636"/>
                </a:moveTo>
                <a:cubicBezTo>
                  <a:pt x="175" y="643"/>
                  <a:pt x="177" y="650"/>
                  <a:pt x="180" y="658"/>
                </a:cubicBezTo>
                <a:cubicBezTo>
                  <a:pt x="188" y="658"/>
                  <a:pt x="196" y="658"/>
                  <a:pt x="204" y="658"/>
                </a:cubicBezTo>
                <a:cubicBezTo>
                  <a:pt x="198" y="662"/>
                  <a:pt x="191" y="667"/>
                  <a:pt x="185" y="671"/>
                </a:cubicBezTo>
                <a:cubicBezTo>
                  <a:pt x="187" y="679"/>
                  <a:pt x="190" y="686"/>
                  <a:pt x="192" y="693"/>
                </a:cubicBezTo>
                <a:cubicBezTo>
                  <a:pt x="185" y="689"/>
                  <a:pt x="179" y="684"/>
                  <a:pt x="172" y="680"/>
                </a:cubicBezTo>
                <a:cubicBezTo>
                  <a:pt x="166" y="684"/>
                  <a:pt x="159" y="689"/>
                  <a:pt x="153" y="693"/>
                </a:cubicBezTo>
                <a:cubicBezTo>
                  <a:pt x="155" y="686"/>
                  <a:pt x="158" y="679"/>
                  <a:pt x="160" y="671"/>
                </a:cubicBezTo>
                <a:cubicBezTo>
                  <a:pt x="154" y="667"/>
                  <a:pt x="147" y="662"/>
                  <a:pt x="140" y="658"/>
                </a:cubicBezTo>
                <a:cubicBezTo>
                  <a:pt x="149" y="658"/>
                  <a:pt x="157" y="658"/>
                  <a:pt x="165" y="658"/>
                </a:cubicBezTo>
                <a:cubicBezTo>
                  <a:pt x="167" y="650"/>
                  <a:pt x="170" y="643"/>
                  <a:pt x="172" y="636"/>
                </a:cubicBezTo>
                <a:close/>
                <a:moveTo>
                  <a:pt x="112" y="636"/>
                </a:moveTo>
                <a:cubicBezTo>
                  <a:pt x="114" y="643"/>
                  <a:pt x="117" y="650"/>
                  <a:pt x="119" y="658"/>
                </a:cubicBezTo>
                <a:cubicBezTo>
                  <a:pt x="127" y="658"/>
                  <a:pt x="136" y="658"/>
                  <a:pt x="144" y="658"/>
                </a:cubicBezTo>
                <a:cubicBezTo>
                  <a:pt x="137" y="662"/>
                  <a:pt x="131" y="667"/>
                  <a:pt x="124" y="671"/>
                </a:cubicBezTo>
                <a:cubicBezTo>
                  <a:pt x="126" y="679"/>
                  <a:pt x="129" y="686"/>
                  <a:pt x="131" y="693"/>
                </a:cubicBezTo>
                <a:cubicBezTo>
                  <a:pt x="125" y="689"/>
                  <a:pt x="118" y="684"/>
                  <a:pt x="112" y="680"/>
                </a:cubicBezTo>
                <a:cubicBezTo>
                  <a:pt x="105" y="684"/>
                  <a:pt x="99" y="689"/>
                  <a:pt x="92" y="693"/>
                </a:cubicBezTo>
                <a:cubicBezTo>
                  <a:pt x="95" y="686"/>
                  <a:pt x="97" y="679"/>
                  <a:pt x="100" y="671"/>
                </a:cubicBezTo>
                <a:cubicBezTo>
                  <a:pt x="93" y="667"/>
                  <a:pt x="86" y="662"/>
                  <a:pt x="80" y="658"/>
                </a:cubicBezTo>
                <a:cubicBezTo>
                  <a:pt x="88" y="658"/>
                  <a:pt x="96" y="658"/>
                  <a:pt x="104" y="658"/>
                </a:cubicBezTo>
                <a:cubicBezTo>
                  <a:pt x="107" y="650"/>
                  <a:pt x="109" y="643"/>
                  <a:pt x="112" y="636"/>
                </a:cubicBezTo>
                <a:close/>
                <a:moveTo>
                  <a:pt x="56" y="617"/>
                </a:moveTo>
                <a:cubicBezTo>
                  <a:pt x="58" y="625"/>
                  <a:pt x="61" y="632"/>
                  <a:pt x="63" y="639"/>
                </a:cubicBezTo>
                <a:cubicBezTo>
                  <a:pt x="71" y="639"/>
                  <a:pt x="80" y="639"/>
                  <a:pt x="88" y="639"/>
                </a:cubicBezTo>
                <a:cubicBezTo>
                  <a:pt x="81" y="644"/>
                  <a:pt x="75" y="648"/>
                  <a:pt x="68" y="653"/>
                </a:cubicBezTo>
                <a:cubicBezTo>
                  <a:pt x="70" y="660"/>
                  <a:pt x="73" y="668"/>
                  <a:pt x="75" y="675"/>
                </a:cubicBezTo>
                <a:cubicBezTo>
                  <a:pt x="69" y="670"/>
                  <a:pt x="62" y="666"/>
                  <a:pt x="56" y="661"/>
                </a:cubicBezTo>
                <a:cubicBezTo>
                  <a:pt x="49" y="666"/>
                  <a:pt x="43" y="670"/>
                  <a:pt x="36" y="675"/>
                </a:cubicBezTo>
                <a:cubicBezTo>
                  <a:pt x="39" y="668"/>
                  <a:pt x="41" y="660"/>
                  <a:pt x="44" y="653"/>
                </a:cubicBezTo>
                <a:cubicBezTo>
                  <a:pt x="37" y="648"/>
                  <a:pt x="30" y="644"/>
                  <a:pt x="24" y="639"/>
                </a:cubicBezTo>
                <a:cubicBezTo>
                  <a:pt x="32" y="639"/>
                  <a:pt x="40" y="639"/>
                  <a:pt x="48" y="639"/>
                </a:cubicBezTo>
                <a:cubicBezTo>
                  <a:pt x="51" y="632"/>
                  <a:pt x="53" y="625"/>
                  <a:pt x="56" y="617"/>
                </a:cubicBezTo>
                <a:close/>
                <a:moveTo>
                  <a:pt x="32" y="564"/>
                </a:moveTo>
                <a:cubicBezTo>
                  <a:pt x="34" y="571"/>
                  <a:pt x="37" y="578"/>
                  <a:pt x="39" y="586"/>
                </a:cubicBezTo>
                <a:cubicBezTo>
                  <a:pt x="47" y="586"/>
                  <a:pt x="55" y="586"/>
                  <a:pt x="63" y="586"/>
                </a:cubicBezTo>
                <a:cubicBezTo>
                  <a:pt x="57" y="590"/>
                  <a:pt x="50" y="595"/>
                  <a:pt x="44" y="599"/>
                </a:cubicBezTo>
                <a:cubicBezTo>
                  <a:pt x="46" y="607"/>
                  <a:pt x="49" y="614"/>
                  <a:pt x="51" y="621"/>
                </a:cubicBezTo>
                <a:cubicBezTo>
                  <a:pt x="45" y="617"/>
                  <a:pt x="38" y="612"/>
                  <a:pt x="32" y="608"/>
                </a:cubicBezTo>
                <a:cubicBezTo>
                  <a:pt x="25" y="612"/>
                  <a:pt x="18" y="617"/>
                  <a:pt x="12" y="621"/>
                </a:cubicBezTo>
                <a:cubicBezTo>
                  <a:pt x="14" y="614"/>
                  <a:pt x="17" y="607"/>
                  <a:pt x="19" y="599"/>
                </a:cubicBezTo>
                <a:cubicBezTo>
                  <a:pt x="13" y="595"/>
                  <a:pt x="6" y="590"/>
                  <a:pt x="0" y="586"/>
                </a:cubicBezTo>
                <a:cubicBezTo>
                  <a:pt x="8" y="586"/>
                  <a:pt x="16" y="586"/>
                  <a:pt x="24" y="586"/>
                </a:cubicBezTo>
                <a:cubicBezTo>
                  <a:pt x="27" y="578"/>
                  <a:pt x="29" y="571"/>
                  <a:pt x="32" y="564"/>
                </a:cubicBezTo>
                <a:close/>
                <a:moveTo>
                  <a:pt x="32" y="503"/>
                </a:moveTo>
                <a:cubicBezTo>
                  <a:pt x="34" y="511"/>
                  <a:pt x="37" y="518"/>
                  <a:pt x="39" y="525"/>
                </a:cubicBezTo>
                <a:cubicBezTo>
                  <a:pt x="47" y="525"/>
                  <a:pt x="55" y="525"/>
                  <a:pt x="63" y="525"/>
                </a:cubicBezTo>
                <a:cubicBezTo>
                  <a:pt x="57" y="530"/>
                  <a:pt x="50" y="534"/>
                  <a:pt x="44" y="539"/>
                </a:cubicBezTo>
                <a:cubicBezTo>
                  <a:pt x="46" y="546"/>
                  <a:pt x="49" y="554"/>
                  <a:pt x="51" y="561"/>
                </a:cubicBezTo>
                <a:cubicBezTo>
                  <a:pt x="45" y="556"/>
                  <a:pt x="38" y="552"/>
                  <a:pt x="32" y="547"/>
                </a:cubicBezTo>
                <a:cubicBezTo>
                  <a:pt x="25" y="552"/>
                  <a:pt x="18" y="556"/>
                  <a:pt x="12" y="561"/>
                </a:cubicBezTo>
                <a:cubicBezTo>
                  <a:pt x="14" y="554"/>
                  <a:pt x="17" y="546"/>
                  <a:pt x="19" y="539"/>
                </a:cubicBezTo>
                <a:cubicBezTo>
                  <a:pt x="13" y="534"/>
                  <a:pt x="6" y="530"/>
                  <a:pt x="0" y="525"/>
                </a:cubicBezTo>
                <a:cubicBezTo>
                  <a:pt x="8" y="525"/>
                  <a:pt x="16" y="525"/>
                  <a:pt x="24" y="525"/>
                </a:cubicBezTo>
                <a:cubicBezTo>
                  <a:pt x="27" y="518"/>
                  <a:pt x="29" y="511"/>
                  <a:pt x="32" y="503"/>
                </a:cubicBezTo>
                <a:close/>
                <a:moveTo>
                  <a:pt x="32" y="443"/>
                </a:moveTo>
                <a:cubicBezTo>
                  <a:pt x="34" y="450"/>
                  <a:pt x="37" y="457"/>
                  <a:pt x="39" y="465"/>
                </a:cubicBezTo>
                <a:cubicBezTo>
                  <a:pt x="47" y="465"/>
                  <a:pt x="55" y="465"/>
                  <a:pt x="63" y="465"/>
                </a:cubicBezTo>
                <a:cubicBezTo>
                  <a:pt x="57" y="469"/>
                  <a:pt x="50" y="474"/>
                  <a:pt x="44" y="478"/>
                </a:cubicBezTo>
                <a:cubicBezTo>
                  <a:pt x="46" y="486"/>
                  <a:pt x="49" y="493"/>
                  <a:pt x="51" y="500"/>
                </a:cubicBezTo>
                <a:cubicBezTo>
                  <a:pt x="45" y="496"/>
                  <a:pt x="38" y="491"/>
                  <a:pt x="32" y="487"/>
                </a:cubicBezTo>
                <a:cubicBezTo>
                  <a:pt x="25" y="491"/>
                  <a:pt x="18" y="496"/>
                  <a:pt x="12" y="500"/>
                </a:cubicBezTo>
                <a:cubicBezTo>
                  <a:pt x="14" y="493"/>
                  <a:pt x="17" y="486"/>
                  <a:pt x="19" y="478"/>
                </a:cubicBezTo>
                <a:cubicBezTo>
                  <a:pt x="13" y="474"/>
                  <a:pt x="6" y="469"/>
                  <a:pt x="0" y="465"/>
                </a:cubicBezTo>
                <a:cubicBezTo>
                  <a:pt x="8" y="465"/>
                  <a:pt x="16" y="465"/>
                  <a:pt x="24" y="465"/>
                </a:cubicBezTo>
                <a:cubicBezTo>
                  <a:pt x="27" y="457"/>
                  <a:pt x="29" y="450"/>
                  <a:pt x="32" y="443"/>
                </a:cubicBezTo>
                <a:close/>
                <a:moveTo>
                  <a:pt x="32" y="382"/>
                </a:moveTo>
                <a:cubicBezTo>
                  <a:pt x="34" y="390"/>
                  <a:pt x="37" y="397"/>
                  <a:pt x="39" y="404"/>
                </a:cubicBezTo>
                <a:cubicBezTo>
                  <a:pt x="47" y="404"/>
                  <a:pt x="55" y="404"/>
                  <a:pt x="63" y="404"/>
                </a:cubicBezTo>
                <a:cubicBezTo>
                  <a:pt x="57" y="409"/>
                  <a:pt x="50" y="413"/>
                  <a:pt x="44" y="418"/>
                </a:cubicBezTo>
                <a:cubicBezTo>
                  <a:pt x="46" y="425"/>
                  <a:pt x="49" y="433"/>
                  <a:pt x="51" y="440"/>
                </a:cubicBezTo>
                <a:cubicBezTo>
                  <a:pt x="45" y="435"/>
                  <a:pt x="38" y="431"/>
                  <a:pt x="32" y="426"/>
                </a:cubicBezTo>
                <a:cubicBezTo>
                  <a:pt x="25" y="431"/>
                  <a:pt x="18" y="435"/>
                  <a:pt x="12" y="440"/>
                </a:cubicBezTo>
                <a:cubicBezTo>
                  <a:pt x="14" y="433"/>
                  <a:pt x="17" y="425"/>
                  <a:pt x="19" y="418"/>
                </a:cubicBezTo>
                <a:cubicBezTo>
                  <a:pt x="13" y="413"/>
                  <a:pt x="6" y="409"/>
                  <a:pt x="0" y="404"/>
                </a:cubicBezTo>
                <a:cubicBezTo>
                  <a:pt x="8" y="404"/>
                  <a:pt x="16" y="404"/>
                  <a:pt x="24" y="404"/>
                </a:cubicBezTo>
                <a:cubicBezTo>
                  <a:pt x="27" y="397"/>
                  <a:pt x="29" y="390"/>
                  <a:pt x="32" y="382"/>
                </a:cubicBezTo>
                <a:close/>
                <a:moveTo>
                  <a:pt x="32" y="322"/>
                </a:moveTo>
                <a:cubicBezTo>
                  <a:pt x="34" y="329"/>
                  <a:pt x="37" y="336"/>
                  <a:pt x="39" y="344"/>
                </a:cubicBezTo>
                <a:cubicBezTo>
                  <a:pt x="47" y="344"/>
                  <a:pt x="55" y="344"/>
                  <a:pt x="63" y="344"/>
                </a:cubicBezTo>
                <a:cubicBezTo>
                  <a:pt x="57" y="348"/>
                  <a:pt x="50" y="353"/>
                  <a:pt x="44" y="357"/>
                </a:cubicBezTo>
                <a:cubicBezTo>
                  <a:pt x="46" y="365"/>
                  <a:pt x="49" y="372"/>
                  <a:pt x="51" y="379"/>
                </a:cubicBezTo>
                <a:cubicBezTo>
                  <a:pt x="45" y="375"/>
                  <a:pt x="38" y="370"/>
                  <a:pt x="32" y="366"/>
                </a:cubicBezTo>
                <a:cubicBezTo>
                  <a:pt x="25" y="370"/>
                  <a:pt x="18" y="375"/>
                  <a:pt x="12" y="379"/>
                </a:cubicBezTo>
                <a:cubicBezTo>
                  <a:pt x="14" y="372"/>
                  <a:pt x="17" y="365"/>
                  <a:pt x="19" y="357"/>
                </a:cubicBezTo>
                <a:cubicBezTo>
                  <a:pt x="13" y="353"/>
                  <a:pt x="6" y="348"/>
                  <a:pt x="0" y="344"/>
                </a:cubicBezTo>
                <a:cubicBezTo>
                  <a:pt x="8" y="344"/>
                  <a:pt x="16" y="344"/>
                  <a:pt x="24" y="344"/>
                </a:cubicBezTo>
                <a:cubicBezTo>
                  <a:pt x="27" y="336"/>
                  <a:pt x="29" y="329"/>
                  <a:pt x="32" y="322"/>
                </a:cubicBezTo>
                <a:close/>
                <a:moveTo>
                  <a:pt x="32" y="261"/>
                </a:moveTo>
                <a:cubicBezTo>
                  <a:pt x="34" y="268"/>
                  <a:pt x="37" y="276"/>
                  <a:pt x="39" y="283"/>
                </a:cubicBezTo>
                <a:cubicBezTo>
                  <a:pt x="47" y="283"/>
                  <a:pt x="55" y="283"/>
                  <a:pt x="63" y="283"/>
                </a:cubicBezTo>
                <a:cubicBezTo>
                  <a:pt x="57" y="288"/>
                  <a:pt x="50" y="292"/>
                  <a:pt x="44" y="297"/>
                </a:cubicBezTo>
                <a:cubicBezTo>
                  <a:pt x="46" y="304"/>
                  <a:pt x="49" y="311"/>
                  <a:pt x="51" y="319"/>
                </a:cubicBezTo>
                <a:cubicBezTo>
                  <a:pt x="45" y="314"/>
                  <a:pt x="38" y="310"/>
                  <a:pt x="32" y="305"/>
                </a:cubicBezTo>
                <a:cubicBezTo>
                  <a:pt x="25" y="310"/>
                  <a:pt x="18" y="314"/>
                  <a:pt x="12" y="319"/>
                </a:cubicBezTo>
                <a:cubicBezTo>
                  <a:pt x="14" y="311"/>
                  <a:pt x="17" y="304"/>
                  <a:pt x="19" y="297"/>
                </a:cubicBezTo>
                <a:cubicBezTo>
                  <a:pt x="13" y="292"/>
                  <a:pt x="6" y="288"/>
                  <a:pt x="0" y="283"/>
                </a:cubicBezTo>
                <a:cubicBezTo>
                  <a:pt x="8" y="283"/>
                  <a:pt x="16" y="283"/>
                  <a:pt x="24" y="283"/>
                </a:cubicBezTo>
                <a:cubicBezTo>
                  <a:pt x="27" y="276"/>
                  <a:pt x="29" y="268"/>
                  <a:pt x="32" y="261"/>
                </a:cubicBezTo>
                <a:close/>
                <a:moveTo>
                  <a:pt x="32" y="201"/>
                </a:moveTo>
                <a:cubicBezTo>
                  <a:pt x="34" y="208"/>
                  <a:pt x="37" y="215"/>
                  <a:pt x="39" y="223"/>
                </a:cubicBezTo>
                <a:cubicBezTo>
                  <a:pt x="47" y="223"/>
                  <a:pt x="55" y="223"/>
                  <a:pt x="63" y="223"/>
                </a:cubicBezTo>
                <a:cubicBezTo>
                  <a:pt x="57" y="227"/>
                  <a:pt x="50" y="232"/>
                  <a:pt x="44" y="236"/>
                </a:cubicBezTo>
                <a:cubicBezTo>
                  <a:pt x="46" y="244"/>
                  <a:pt x="49" y="251"/>
                  <a:pt x="51" y="258"/>
                </a:cubicBezTo>
                <a:cubicBezTo>
                  <a:pt x="45" y="254"/>
                  <a:pt x="38" y="249"/>
                  <a:pt x="32" y="245"/>
                </a:cubicBezTo>
                <a:cubicBezTo>
                  <a:pt x="25" y="249"/>
                  <a:pt x="18" y="254"/>
                  <a:pt x="12" y="258"/>
                </a:cubicBezTo>
                <a:cubicBezTo>
                  <a:pt x="14" y="251"/>
                  <a:pt x="17" y="244"/>
                  <a:pt x="19" y="236"/>
                </a:cubicBezTo>
                <a:cubicBezTo>
                  <a:pt x="13" y="232"/>
                  <a:pt x="6" y="227"/>
                  <a:pt x="0" y="223"/>
                </a:cubicBezTo>
                <a:cubicBezTo>
                  <a:pt x="8" y="223"/>
                  <a:pt x="16" y="223"/>
                  <a:pt x="24" y="223"/>
                </a:cubicBezTo>
                <a:cubicBezTo>
                  <a:pt x="27" y="215"/>
                  <a:pt x="29" y="208"/>
                  <a:pt x="32" y="201"/>
                </a:cubicBezTo>
                <a:close/>
                <a:moveTo>
                  <a:pt x="32" y="140"/>
                </a:moveTo>
                <a:cubicBezTo>
                  <a:pt x="34" y="147"/>
                  <a:pt x="37" y="155"/>
                  <a:pt x="39" y="162"/>
                </a:cubicBezTo>
                <a:cubicBezTo>
                  <a:pt x="47" y="162"/>
                  <a:pt x="55" y="162"/>
                  <a:pt x="63" y="162"/>
                </a:cubicBezTo>
                <a:cubicBezTo>
                  <a:pt x="57" y="167"/>
                  <a:pt x="50" y="171"/>
                  <a:pt x="44" y="176"/>
                </a:cubicBezTo>
                <a:cubicBezTo>
                  <a:pt x="46" y="183"/>
                  <a:pt x="49" y="190"/>
                  <a:pt x="51" y="198"/>
                </a:cubicBezTo>
                <a:cubicBezTo>
                  <a:pt x="45" y="193"/>
                  <a:pt x="38" y="189"/>
                  <a:pt x="32" y="184"/>
                </a:cubicBezTo>
                <a:cubicBezTo>
                  <a:pt x="25" y="189"/>
                  <a:pt x="18" y="193"/>
                  <a:pt x="12" y="198"/>
                </a:cubicBezTo>
                <a:cubicBezTo>
                  <a:pt x="14" y="190"/>
                  <a:pt x="17" y="183"/>
                  <a:pt x="19" y="176"/>
                </a:cubicBezTo>
                <a:cubicBezTo>
                  <a:pt x="13" y="171"/>
                  <a:pt x="6" y="167"/>
                  <a:pt x="0" y="162"/>
                </a:cubicBezTo>
                <a:cubicBezTo>
                  <a:pt x="8" y="162"/>
                  <a:pt x="16" y="162"/>
                  <a:pt x="24" y="162"/>
                </a:cubicBezTo>
                <a:cubicBezTo>
                  <a:pt x="27" y="155"/>
                  <a:pt x="29" y="147"/>
                  <a:pt x="32" y="140"/>
                </a:cubicBezTo>
                <a:close/>
                <a:moveTo>
                  <a:pt x="32" y="80"/>
                </a:moveTo>
                <a:cubicBezTo>
                  <a:pt x="34" y="87"/>
                  <a:pt x="37" y="94"/>
                  <a:pt x="39" y="102"/>
                </a:cubicBezTo>
                <a:cubicBezTo>
                  <a:pt x="47" y="102"/>
                  <a:pt x="55" y="102"/>
                  <a:pt x="63" y="102"/>
                </a:cubicBezTo>
                <a:cubicBezTo>
                  <a:pt x="57" y="106"/>
                  <a:pt x="50" y="111"/>
                  <a:pt x="44" y="115"/>
                </a:cubicBezTo>
                <a:cubicBezTo>
                  <a:pt x="46" y="123"/>
                  <a:pt x="49" y="130"/>
                  <a:pt x="51" y="137"/>
                </a:cubicBezTo>
                <a:cubicBezTo>
                  <a:pt x="45" y="133"/>
                  <a:pt x="38" y="128"/>
                  <a:pt x="32" y="124"/>
                </a:cubicBezTo>
                <a:cubicBezTo>
                  <a:pt x="25" y="128"/>
                  <a:pt x="18" y="133"/>
                  <a:pt x="12" y="137"/>
                </a:cubicBezTo>
                <a:cubicBezTo>
                  <a:pt x="14" y="130"/>
                  <a:pt x="17" y="123"/>
                  <a:pt x="19" y="115"/>
                </a:cubicBezTo>
                <a:cubicBezTo>
                  <a:pt x="13" y="111"/>
                  <a:pt x="6" y="106"/>
                  <a:pt x="0" y="102"/>
                </a:cubicBezTo>
                <a:cubicBezTo>
                  <a:pt x="8" y="102"/>
                  <a:pt x="16" y="102"/>
                  <a:pt x="24" y="102"/>
                </a:cubicBezTo>
                <a:cubicBezTo>
                  <a:pt x="27" y="94"/>
                  <a:pt x="29" y="87"/>
                  <a:pt x="32" y="80"/>
                </a:cubicBezTo>
                <a:close/>
                <a:moveTo>
                  <a:pt x="50" y="24"/>
                </a:moveTo>
                <a:lnTo>
                  <a:pt x="58" y="46"/>
                </a:lnTo>
                <a:lnTo>
                  <a:pt x="82" y="46"/>
                </a:lnTo>
                <a:lnTo>
                  <a:pt x="62" y="59"/>
                </a:lnTo>
                <a:lnTo>
                  <a:pt x="70" y="81"/>
                </a:lnTo>
                <a:lnTo>
                  <a:pt x="50" y="68"/>
                </a:lnTo>
                <a:lnTo>
                  <a:pt x="30" y="81"/>
                </a:lnTo>
                <a:lnTo>
                  <a:pt x="38" y="59"/>
                </a:lnTo>
                <a:lnTo>
                  <a:pt x="18" y="46"/>
                </a:lnTo>
                <a:lnTo>
                  <a:pt x="43" y="46"/>
                </a:lnTo>
                <a:lnTo>
                  <a:pt x="50" y="24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1960" y="7268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Verdana"/>
              </a:rPr>
              <a:t>Well Done</a:t>
            </a:r>
            <a:endParaRPr b="1" lang="en-US" sz="96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787640" y="566064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50028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6610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59482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9482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72428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8:25Z</dcterms:modified>
  <cp:revision>57</cp:revision>
  <dc:subject/>
  <dc:title>Awesome PowerPoint Background Template</dc:title>
</cp:coreProperties>
</file>