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1e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1916280" cy="19144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3480" y="104760"/>
            <a:ext cx="9088200" cy="6670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Script MT Bold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350200" cy="1654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6699"/>
                </a:solidFill>
                <a:latin typeface="Script MT Bold"/>
              </a:rPr>
              <a:t>Appreciation</a:t>
            </a:r>
            <a:endParaRPr b="1" lang="en-US" sz="119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55640" y="558936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898560" y="3068640"/>
            <a:ext cx="734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52308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587844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51808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83664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Script MT Bold"/>
              </a:rPr>
              <a:t>Certificat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6760" y="3540240"/>
            <a:ext cx="4467240" cy="784080"/>
          </a:xfrm>
          <a:prstGeom prst="rect">
            <a:avLst/>
          </a:prstGeom>
          <a:gradFill rotWithShape="0">
            <a:gsLst>
              <a:gs pos="0">
                <a:srgbClr val="d1edff"/>
              </a:gs>
              <a:gs pos="50000">
                <a:srgbClr val="fefefe"/>
              </a:gs>
              <a:gs pos="100000">
                <a:srgbClr val="d1edff"/>
              </a:gs>
            </a:gsLst>
            <a:lin ang="5400000"/>
          </a:gradFill>
          <a:ln w="698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Script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24:37Z</dcterms:modified>
  <cp:revision>64</cp:revision>
  <dc:subject/>
  <dc:title>Awesome PowerPoint Background Template</dc:title>
</cp:coreProperties>
</file>