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1076400" y="4030560"/>
            <a:ext cx="6989760" cy="17748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42920" y="1397160"/>
            <a:ext cx="7058160" cy="1366560"/>
          </a:xfrm>
          <a:prstGeom prst="roundRect">
            <a:avLst>
              <a:gd name="adj" fmla="val 15213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5640" y="1508040"/>
            <a:ext cx="6908760" cy="1222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ECOGNITION</a:t>
            </a:r>
            <a:endParaRPr b="1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716360" y="5660640"/>
            <a:ext cx="36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71808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56610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59482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9482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4724280"/>
            <a:ext cx="4824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836640"/>
            <a:ext cx="7772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ertifica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36:59Z</dcterms:modified>
  <cp:revision>62</cp:revision>
  <dc:subject/>
  <dc:title>Awesome PowerPoint Background Template</dc:title>
</cp:coreProperties>
</file>